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drumroll.wav" ContentType="audio/x-wav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E7E8-D61B-4886-BA0B-960051F4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4FD7-ECA5-4B83-89EA-A53C2C88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91E5-6DFC-44F1-86B8-1CFC3C5D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E161-62A4-4380-AD41-FE2D59CE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2942-CCAC-463C-80AB-9E28093E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7382-2157-4EEB-A6F4-F8382F60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C58B-5E37-4459-8021-1399493E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82A0-F5ED-4FC3-A548-124FD8DB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F386-3402-48C2-A9AC-FAF1B1D2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BE6F-ABCA-44A7-8C9A-48922B3F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07B7-EC86-49D7-8E64-D29E8B95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D226-7B4A-4553-B0AD-A10EACB8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D4AD-9E0A-4F33-8498-5C546C428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te, Obtuse, Straight or Ri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spcBef>
                <a:spcPts val="700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spcBef>
                <a:spcPts val="700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spcBef>
                <a:spcPts val="700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spcBef>
                <a:spcPts val="700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43200" y="2581200"/>
            <a:ext cx="1492200" cy="428760"/>
          </a:xfrm>
          <a:custGeom>
            <a:avLst/>
            <a:gdLst/>
            <a:ahLst/>
            <a:rect l="l" t="t" r="r" b="b"/>
            <a:pathLst>
              <a:path w="4144" h="1191">
                <a:moveTo>
                  <a:pt x="10567" y="7640"/>
                </a:moveTo>
                <a:cubicBezTo>
                  <a:pt x="10308" y="7623"/>
                  <a:pt x="10127" y="7888"/>
                  <a:pt x="10120" y="8161"/>
                </a:cubicBezTo>
                <a:cubicBezTo>
                  <a:pt x="10145" y="8227"/>
                  <a:pt x="10170" y="8293"/>
                  <a:pt x="10195" y="8359"/>
                </a:cubicBezTo>
                <a:cubicBezTo>
                  <a:pt x="10441" y="8307"/>
                  <a:pt x="10956" y="8090"/>
                  <a:pt x="10616" y="7739"/>
                </a:cubicBezTo>
                <a:cubicBezTo>
                  <a:pt x="10488" y="7717"/>
                  <a:pt x="10455" y="7698"/>
                  <a:pt x="10393" y="7764"/>
                </a:cubicBezTo>
              </a:path>
              <a:path w="4144" h="1191">
                <a:moveTo>
                  <a:pt x="10939" y="7317"/>
                </a:moveTo>
                <a:cubicBezTo>
                  <a:pt x="10996" y="7639"/>
                  <a:pt x="11049" y="7946"/>
                  <a:pt x="11137" y="8260"/>
                </a:cubicBezTo>
                <a:cubicBezTo>
                  <a:pt x="11115" y="8041"/>
                  <a:pt x="11027" y="7745"/>
                  <a:pt x="11212" y="7565"/>
                </a:cubicBezTo>
                <a:cubicBezTo>
                  <a:pt x="11474" y="7311"/>
                  <a:pt x="11555" y="8041"/>
                  <a:pt x="11361" y="8235"/>
                </a:cubicBezTo>
                <a:cubicBezTo>
                  <a:pt x="11065" y="8531"/>
                  <a:pt x="11074" y="8199"/>
                  <a:pt x="11063" y="8037"/>
                </a:cubicBezTo>
              </a:path>
              <a:path w="4144" h="1191">
                <a:moveTo>
                  <a:pt x="11708" y="7169"/>
                </a:moveTo>
                <a:cubicBezTo>
                  <a:pt x="11881" y="7444"/>
                  <a:pt x="12022" y="7778"/>
                  <a:pt x="12055" y="8111"/>
                </a:cubicBezTo>
                <a:cubicBezTo>
                  <a:pt x="12047" y="8128"/>
                  <a:pt x="12038" y="8144"/>
                  <a:pt x="12030" y="8161"/>
                </a:cubicBezTo>
              </a:path>
              <a:path w="4144" h="1191">
                <a:moveTo>
                  <a:pt x="11683" y="7739"/>
                </a:moveTo>
                <a:cubicBezTo>
                  <a:pt x="11898" y="7685"/>
                  <a:pt x="12178" y="7541"/>
                  <a:pt x="12402" y="7565"/>
                </a:cubicBezTo>
                <a:cubicBezTo>
                  <a:pt x="12606" y="7587"/>
                  <a:pt x="12526" y="7953"/>
                  <a:pt x="12526" y="8086"/>
                </a:cubicBezTo>
                <a:cubicBezTo>
                  <a:pt x="12756" y="8137"/>
                  <a:pt x="12723" y="7852"/>
                  <a:pt x="12750" y="7689"/>
                </a:cubicBezTo>
                <a:cubicBezTo>
                  <a:pt x="12602" y="7470"/>
                  <a:pt x="12740" y="7897"/>
                  <a:pt x="12774" y="7962"/>
                </a:cubicBezTo>
                <a:cubicBezTo>
                  <a:pt x="12878" y="8031"/>
                  <a:pt x="12929" y="8026"/>
                  <a:pt x="12998" y="7888"/>
                </a:cubicBezTo>
              </a:path>
              <a:path w="4144" h="1191">
                <a:moveTo>
                  <a:pt x="12998" y="7590"/>
                </a:moveTo>
                <a:cubicBezTo>
                  <a:pt x="12969" y="7787"/>
                  <a:pt x="13186" y="7797"/>
                  <a:pt x="13370" y="7938"/>
                </a:cubicBezTo>
                <a:cubicBezTo>
                  <a:pt x="13191" y="8093"/>
                  <a:pt x="13199" y="8075"/>
                  <a:pt x="12973" y="8012"/>
                </a:cubicBezTo>
              </a:path>
              <a:path w="4144" h="1191">
                <a:moveTo>
                  <a:pt x="13816" y="7615"/>
                </a:moveTo>
                <a:cubicBezTo>
                  <a:pt x="13980" y="7637"/>
                  <a:pt x="14103" y="7601"/>
                  <a:pt x="14263" y="7541"/>
                </a:cubicBezTo>
                <a:cubicBezTo>
                  <a:pt x="14196" y="7407"/>
                  <a:pt x="13988" y="7353"/>
                  <a:pt x="13866" y="7491"/>
                </a:cubicBezTo>
                <a:cubicBezTo>
                  <a:pt x="13562" y="7834"/>
                  <a:pt x="13845" y="8007"/>
                  <a:pt x="14139" y="79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626080" y="2562120"/>
            <a:ext cx="411120" cy="304920"/>
          </a:xfrm>
          <a:custGeom>
            <a:avLst/>
            <a:gdLst/>
            <a:ahLst/>
            <a:rect l="l" t="t" r="r" b="b"/>
            <a:pathLst>
              <a:path w="1142" h="844">
                <a:moveTo>
                  <a:pt x="15627" y="7119"/>
                </a:moveTo>
                <a:cubicBezTo>
                  <a:pt x="15803" y="7198"/>
                  <a:pt x="16028" y="7190"/>
                  <a:pt x="16222" y="7218"/>
                </a:cubicBezTo>
                <a:cubicBezTo>
                  <a:pt x="16350" y="7237"/>
                  <a:pt x="16664" y="7288"/>
                  <a:pt x="16768" y="7317"/>
                </a:cubicBezTo>
                <a:cubicBezTo>
                  <a:pt x="16423" y="7507"/>
                  <a:pt x="16132" y="7754"/>
                  <a:pt x="15801" y="7962"/>
                </a:cubicBezTo>
                <a:cubicBezTo>
                  <a:pt x="15817" y="7946"/>
                  <a:pt x="15834" y="7929"/>
                  <a:pt x="15850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42040" y="2303640"/>
            <a:ext cx="598320" cy="554040"/>
          </a:xfrm>
          <a:custGeom>
            <a:avLst/>
            <a:gdLst/>
            <a:ahLst/>
            <a:rect l="l" t="t" r="r" b="b"/>
            <a:pathLst>
              <a:path w="1663" h="1539">
                <a:moveTo>
                  <a:pt x="17909" y="7243"/>
                </a:moveTo>
                <a:cubicBezTo>
                  <a:pt x="17909" y="7093"/>
                  <a:pt x="17718" y="6749"/>
                  <a:pt x="17487" y="6896"/>
                </a:cubicBezTo>
                <a:cubicBezTo>
                  <a:pt x="17260" y="7041"/>
                  <a:pt x="17284" y="7609"/>
                  <a:pt x="17611" y="7342"/>
                </a:cubicBezTo>
                <a:cubicBezTo>
                  <a:pt x="17661" y="7276"/>
                  <a:pt x="17710" y="7210"/>
                  <a:pt x="17760" y="7144"/>
                </a:cubicBezTo>
                <a:cubicBezTo>
                  <a:pt x="17816" y="7051"/>
                  <a:pt x="17816" y="6984"/>
                  <a:pt x="17859" y="7045"/>
                </a:cubicBezTo>
                <a:cubicBezTo>
                  <a:pt x="17832" y="7343"/>
                  <a:pt x="17822" y="7647"/>
                  <a:pt x="17760" y="7938"/>
                </a:cubicBezTo>
              </a:path>
              <a:path w="1663" h="1539">
                <a:moveTo>
                  <a:pt x="18331" y="6995"/>
                </a:moveTo>
                <a:cubicBezTo>
                  <a:pt x="18204" y="7318"/>
                  <a:pt x="18156" y="7475"/>
                  <a:pt x="18182" y="7813"/>
                </a:cubicBezTo>
                <a:cubicBezTo>
                  <a:pt x="18508" y="7787"/>
                  <a:pt x="18699" y="7547"/>
                  <a:pt x="18604" y="7169"/>
                </a:cubicBezTo>
                <a:cubicBezTo>
                  <a:pt x="18551" y="6958"/>
                  <a:pt x="18446" y="6944"/>
                  <a:pt x="18281" y="6921"/>
                </a:cubicBezTo>
              </a:path>
              <a:path w="1663" h="1539">
                <a:moveTo>
                  <a:pt x="18901" y="6400"/>
                </a:moveTo>
                <a:cubicBezTo>
                  <a:pt x="18876" y="6457"/>
                  <a:pt x="18774" y="6818"/>
                  <a:pt x="18951" y="6598"/>
                </a:cubicBezTo>
                <a:cubicBezTo>
                  <a:pt x="19114" y="6395"/>
                  <a:pt x="18859" y="6462"/>
                  <a:pt x="18777" y="64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90920" y="3606840"/>
            <a:ext cx="1162080" cy="358560"/>
          </a:xfrm>
          <a:custGeom>
            <a:avLst/>
            <a:gdLst/>
            <a:ahLst/>
            <a:rect l="l" t="t" r="r" b="b"/>
            <a:pathLst>
              <a:path w="3225" h="993">
                <a:moveTo>
                  <a:pt x="10220" y="10567"/>
                </a:moveTo>
                <a:cubicBezTo>
                  <a:pt x="10190" y="10328"/>
                  <a:pt x="10191" y="10333"/>
                  <a:pt x="9996" y="10195"/>
                </a:cubicBezTo>
                <a:cubicBezTo>
                  <a:pt x="9931" y="10258"/>
                  <a:pt x="9418" y="10946"/>
                  <a:pt x="9823" y="10939"/>
                </a:cubicBezTo>
                <a:cubicBezTo>
                  <a:pt x="10042" y="10814"/>
                  <a:pt x="10129" y="10737"/>
                  <a:pt x="10195" y="10542"/>
                </a:cubicBezTo>
                <a:cubicBezTo>
                  <a:pt x="10220" y="10509"/>
                  <a:pt x="10244" y="10476"/>
                  <a:pt x="10269" y="10443"/>
                </a:cubicBezTo>
                <a:cubicBezTo>
                  <a:pt x="10219" y="10694"/>
                  <a:pt x="10165" y="10852"/>
                  <a:pt x="10344" y="10988"/>
                </a:cubicBezTo>
              </a:path>
              <a:path w="3225" h="993">
                <a:moveTo>
                  <a:pt x="11013" y="10468"/>
                </a:moveTo>
                <a:cubicBezTo>
                  <a:pt x="11062" y="10452"/>
                  <a:pt x="11038" y="10423"/>
                  <a:pt x="11038" y="10344"/>
                </a:cubicBezTo>
                <a:cubicBezTo>
                  <a:pt x="10816" y="10356"/>
                  <a:pt x="10520" y="10614"/>
                  <a:pt x="10691" y="10889"/>
                </a:cubicBezTo>
                <a:cubicBezTo>
                  <a:pt x="10863" y="11165"/>
                  <a:pt x="11266" y="10655"/>
                  <a:pt x="11336" y="10592"/>
                </a:cubicBezTo>
              </a:path>
              <a:path w="3225" h="993">
                <a:moveTo>
                  <a:pt x="11460" y="10319"/>
                </a:moveTo>
                <a:cubicBezTo>
                  <a:pt x="11434" y="10413"/>
                  <a:pt x="11260" y="10970"/>
                  <a:pt x="11509" y="10939"/>
                </a:cubicBezTo>
                <a:cubicBezTo>
                  <a:pt x="11699" y="10831"/>
                  <a:pt x="11766" y="10782"/>
                  <a:pt x="11807" y="10616"/>
                </a:cubicBezTo>
                <a:cubicBezTo>
                  <a:pt x="11829" y="10160"/>
                  <a:pt x="11739" y="10719"/>
                  <a:pt x="11832" y="10840"/>
                </a:cubicBezTo>
                <a:cubicBezTo>
                  <a:pt x="12089" y="11175"/>
                  <a:pt x="12389" y="10571"/>
                  <a:pt x="12427" y="10418"/>
                </a:cubicBezTo>
                <a:cubicBezTo>
                  <a:pt x="12447" y="10195"/>
                  <a:pt x="12456" y="10154"/>
                  <a:pt x="12452" y="10021"/>
                </a:cubicBezTo>
                <a:cubicBezTo>
                  <a:pt x="12431" y="10327"/>
                  <a:pt x="12408" y="10632"/>
                  <a:pt x="12402" y="10939"/>
                </a:cubicBezTo>
                <a:cubicBezTo>
                  <a:pt x="12402" y="10964"/>
                  <a:pt x="12402" y="10988"/>
                  <a:pt x="12402" y="11013"/>
                </a:cubicBezTo>
              </a:path>
              <a:path w="3225" h="993">
                <a:moveTo>
                  <a:pt x="12055" y="10393"/>
                </a:moveTo>
                <a:cubicBezTo>
                  <a:pt x="12309" y="10443"/>
                  <a:pt x="12649" y="10413"/>
                  <a:pt x="12874" y="10542"/>
                </a:cubicBezTo>
                <a:cubicBezTo>
                  <a:pt x="12892" y="10552"/>
                  <a:pt x="12985" y="10602"/>
                  <a:pt x="12923" y="10393"/>
                </a:cubicBezTo>
                <a:cubicBezTo>
                  <a:pt x="12898" y="10360"/>
                  <a:pt x="12874" y="10327"/>
                  <a:pt x="12849" y="10294"/>
                </a:cubicBezTo>
                <a:cubicBezTo>
                  <a:pt x="12723" y="10402"/>
                  <a:pt x="12310" y="10803"/>
                  <a:pt x="12601" y="10988"/>
                </a:cubicBezTo>
                <a:cubicBezTo>
                  <a:pt x="12675" y="10996"/>
                  <a:pt x="12750" y="11005"/>
                  <a:pt x="12824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22960" y="3741840"/>
            <a:ext cx="285840" cy="187200"/>
          </a:xfrm>
          <a:custGeom>
            <a:avLst/>
            <a:gdLst/>
            <a:ahLst/>
            <a:rect l="l" t="t" r="r" b="b"/>
            <a:pathLst>
              <a:path w="794" h="522">
                <a:moveTo>
                  <a:pt x="15205" y="10393"/>
                </a:moveTo>
                <a:cubicBezTo>
                  <a:pt x="15037" y="10497"/>
                  <a:pt x="14940" y="10613"/>
                  <a:pt x="14784" y="10592"/>
                </a:cubicBezTo>
                <a:cubicBezTo>
                  <a:pt x="15114" y="10601"/>
                  <a:pt x="15294" y="10663"/>
                  <a:pt x="15553" y="10889"/>
                </a:cubicBezTo>
                <a:cubicBezTo>
                  <a:pt x="15561" y="10897"/>
                  <a:pt x="15569" y="10906"/>
                  <a:pt x="15577" y="109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07040" y="3598920"/>
            <a:ext cx="509760" cy="374760"/>
          </a:xfrm>
          <a:custGeom>
            <a:avLst/>
            <a:gdLst/>
            <a:ahLst/>
            <a:rect l="l" t="t" r="r" b="b"/>
            <a:pathLst>
              <a:path w="1415" h="1043">
                <a:moveTo>
                  <a:pt x="17413" y="10170"/>
                </a:moveTo>
                <a:cubicBezTo>
                  <a:pt x="17166" y="9874"/>
                  <a:pt x="17077" y="10117"/>
                  <a:pt x="16966" y="10418"/>
                </a:cubicBezTo>
                <a:cubicBezTo>
                  <a:pt x="17430" y="10463"/>
                  <a:pt x="17345" y="10201"/>
                  <a:pt x="17661" y="10046"/>
                </a:cubicBezTo>
                <a:cubicBezTo>
                  <a:pt x="17970" y="9895"/>
                  <a:pt x="17464" y="10698"/>
                  <a:pt x="17413" y="11038"/>
                </a:cubicBezTo>
              </a:path>
              <a:path w="1415" h="1043">
                <a:moveTo>
                  <a:pt x="18033" y="10145"/>
                </a:moveTo>
                <a:cubicBezTo>
                  <a:pt x="17862" y="10421"/>
                  <a:pt x="17779" y="10549"/>
                  <a:pt x="17760" y="10864"/>
                </a:cubicBezTo>
                <a:cubicBezTo>
                  <a:pt x="18037" y="10821"/>
                  <a:pt x="18588" y="10648"/>
                  <a:pt x="18355" y="10220"/>
                </a:cubicBezTo>
                <a:cubicBezTo>
                  <a:pt x="18218" y="9968"/>
                  <a:pt x="17834" y="10182"/>
                  <a:pt x="18182" y="99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796080" y="3456000"/>
            <a:ext cx="71280" cy="81000"/>
          </a:xfrm>
          <a:custGeom>
            <a:avLst/>
            <a:gdLst/>
            <a:ahLst/>
            <a:rect l="l" t="t" r="r" b="b"/>
            <a:pathLst>
              <a:path w="200" h="225">
                <a:moveTo>
                  <a:pt x="18976" y="9599"/>
                </a:moveTo>
                <a:cubicBezTo>
                  <a:pt x="18818" y="9743"/>
                  <a:pt x="18860" y="9812"/>
                  <a:pt x="19075" y="9798"/>
                </a:cubicBezTo>
                <a:cubicBezTo>
                  <a:pt x="19050" y="9609"/>
                  <a:pt x="19071" y="9653"/>
                  <a:pt x="18876" y="96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02000" y="4670280"/>
            <a:ext cx="581040" cy="536760"/>
          </a:xfrm>
          <a:custGeom>
            <a:avLst/>
            <a:gdLst/>
            <a:ahLst/>
            <a:rect l="l" t="t" r="r" b="b"/>
            <a:pathLst>
              <a:path w="1613" h="1489">
                <a:moveTo>
                  <a:pt x="9575" y="13419"/>
                </a:moveTo>
                <a:cubicBezTo>
                  <a:pt x="9559" y="13592"/>
                  <a:pt x="9541" y="13767"/>
                  <a:pt x="9525" y="13940"/>
                </a:cubicBezTo>
                <a:cubicBezTo>
                  <a:pt x="9424" y="13710"/>
                  <a:pt x="9425" y="13466"/>
                  <a:pt x="9624" y="13271"/>
                </a:cubicBezTo>
                <a:cubicBezTo>
                  <a:pt x="9718" y="13179"/>
                  <a:pt x="9874" y="13171"/>
                  <a:pt x="9996" y="13171"/>
                </a:cubicBezTo>
              </a:path>
              <a:path w="1613" h="1489">
                <a:moveTo>
                  <a:pt x="10170" y="13568"/>
                </a:moveTo>
                <a:cubicBezTo>
                  <a:pt x="10170" y="13758"/>
                  <a:pt x="10170" y="13799"/>
                  <a:pt x="10170" y="13915"/>
                </a:cubicBezTo>
              </a:path>
              <a:path w="1613" h="1489">
                <a:moveTo>
                  <a:pt x="10170" y="12973"/>
                </a:moveTo>
                <a:lnTo>
                  <a:pt x="10170" y="12973"/>
                </a:lnTo>
                <a:lnTo>
                  <a:pt x="10170" y="12973"/>
                </a:lnTo>
              </a:path>
              <a:path w="1613" h="1489">
                <a:moveTo>
                  <a:pt x="10170" y="12973"/>
                </a:moveTo>
                <a:lnTo>
                  <a:pt x="10170" y="12973"/>
                </a:lnTo>
              </a:path>
              <a:path w="1613" h="1489">
                <a:moveTo>
                  <a:pt x="10939" y="13320"/>
                </a:moveTo>
                <a:cubicBezTo>
                  <a:pt x="10840" y="13348"/>
                  <a:pt x="10263" y="13713"/>
                  <a:pt x="10592" y="13866"/>
                </a:cubicBezTo>
                <a:cubicBezTo>
                  <a:pt x="10942" y="14028"/>
                  <a:pt x="11000" y="13428"/>
                  <a:pt x="10988" y="13271"/>
                </a:cubicBezTo>
                <a:cubicBezTo>
                  <a:pt x="10930" y="13578"/>
                  <a:pt x="11187" y="14003"/>
                  <a:pt x="11038" y="14312"/>
                </a:cubicBezTo>
                <a:cubicBezTo>
                  <a:pt x="10799" y="14809"/>
                  <a:pt x="10452" y="14373"/>
                  <a:pt x="10517" y="140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3240" y="4705200"/>
            <a:ext cx="169920" cy="312840"/>
          </a:xfrm>
          <a:custGeom>
            <a:avLst/>
            <a:gdLst/>
            <a:ahLst/>
            <a:rect l="l" t="t" r="r" b="b"/>
            <a:pathLst>
              <a:path w="473" h="869">
                <a:moveTo>
                  <a:pt x="11609" y="13072"/>
                </a:moveTo>
                <a:cubicBezTo>
                  <a:pt x="11596" y="13263"/>
                  <a:pt x="11629" y="13742"/>
                  <a:pt x="11509" y="13891"/>
                </a:cubicBezTo>
                <a:cubicBezTo>
                  <a:pt x="11559" y="13628"/>
                  <a:pt x="11605" y="13506"/>
                  <a:pt x="11757" y="13295"/>
                </a:cubicBezTo>
                <a:cubicBezTo>
                  <a:pt x="11987" y="13493"/>
                  <a:pt x="11974" y="13615"/>
                  <a:pt x="11956" y="139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73720" y="4660920"/>
            <a:ext cx="250560" cy="339840"/>
          </a:xfrm>
          <a:custGeom>
            <a:avLst/>
            <a:gdLst/>
            <a:ahLst/>
            <a:rect l="l" t="t" r="r" b="b"/>
            <a:pathLst>
              <a:path w="696" h="944">
                <a:moveTo>
                  <a:pt x="12452" y="12948"/>
                </a:moveTo>
                <a:cubicBezTo>
                  <a:pt x="12427" y="13272"/>
                  <a:pt x="12427" y="13569"/>
                  <a:pt x="12477" y="13891"/>
                </a:cubicBezTo>
                <a:cubicBezTo>
                  <a:pt x="12661" y="13869"/>
                  <a:pt x="12657" y="13860"/>
                  <a:pt x="12774" y="13717"/>
                </a:cubicBezTo>
              </a:path>
              <a:path w="696" h="944">
                <a:moveTo>
                  <a:pt x="12477" y="13320"/>
                </a:moveTo>
                <a:cubicBezTo>
                  <a:pt x="12799" y="13345"/>
                  <a:pt x="12907" y="13353"/>
                  <a:pt x="13122" y="133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37160" y="4803840"/>
            <a:ext cx="293760" cy="108000"/>
          </a:xfrm>
          <a:custGeom>
            <a:avLst/>
            <a:gdLst/>
            <a:ahLst/>
            <a:rect l="l" t="t" r="r" b="b"/>
            <a:pathLst>
              <a:path w="819" h="299">
                <a:moveTo>
                  <a:pt x="15379" y="13345"/>
                </a:moveTo>
                <a:cubicBezTo>
                  <a:pt x="15652" y="13366"/>
                  <a:pt x="15926" y="13385"/>
                  <a:pt x="16197" y="13419"/>
                </a:cubicBezTo>
              </a:path>
              <a:path w="819" h="299">
                <a:moveTo>
                  <a:pt x="15404" y="13593"/>
                </a:moveTo>
                <a:cubicBezTo>
                  <a:pt x="15692" y="13646"/>
                  <a:pt x="15797" y="13662"/>
                  <a:pt x="15999" y="13643"/>
                </a:cubicBezTo>
              </a:path>
              <a:path w="819" h="299">
                <a:moveTo>
                  <a:pt x="15999" y="13643"/>
                </a:moveTo>
                <a:lnTo>
                  <a:pt x="15999" y="1364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59680" y="4419720"/>
            <a:ext cx="822240" cy="519120"/>
          </a:xfrm>
          <a:custGeom>
            <a:avLst/>
            <a:gdLst/>
            <a:ahLst/>
            <a:rect l="l" t="t" r="r" b="b"/>
            <a:pathLst>
              <a:path w="2283" h="1440">
                <a:moveTo>
                  <a:pt x="18008" y="13047"/>
                </a:moveTo>
                <a:cubicBezTo>
                  <a:pt x="18008" y="12686"/>
                  <a:pt x="17830" y="12366"/>
                  <a:pt x="17462" y="12799"/>
                </a:cubicBezTo>
                <a:cubicBezTo>
                  <a:pt x="17437" y="12873"/>
                  <a:pt x="17413" y="12948"/>
                  <a:pt x="17388" y="13022"/>
                </a:cubicBezTo>
                <a:cubicBezTo>
                  <a:pt x="17764" y="13153"/>
                  <a:pt x="17875" y="13066"/>
                  <a:pt x="18083" y="12725"/>
                </a:cubicBezTo>
                <a:cubicBezTo>
                  <a:pt x="18068" y="13063"/>
                  <a:pt x="18040" y="13389"/>
                  <a:pt x="17959" y="13717"/>
                </a:cubicBezTo>
                <a:cubicBezTo>
                  <a:pt x="17959" y="13709"/>
                  <a:pt x="17959" y="13700"/>
                  <a:pt x="17959" y="13692"/>
                </a:cubicBezTo>
              </a:path>
              <a:path w="2283" h="1440">
                <a:moveTo>
                  <a:pt x="18678" y="12551"/>
                </a:moveTo>
                <a:cubicBezTo>
                  <a:pt x="18434" y="12877"/>
                  <a:pt x="18341" y="13139"/>
                  <a:pt x="18331" y="13543"/>
                </a:cubicBezTo>
                <a:cubicBezTo>
                  <a:pt x="18642" y="13524"/>
                  <a:pt x="19156" y="13331"/>
                  <a:pt x="19000" y="12874"/>
                </a:cubicBezTo>
                <a:cubicBezTo>
                  <a:pt x="18822" y="12696"/>
                  <a:pt x="18779" y="12648"/>
                  <a:pt x="18653" y="12551"/>
                </a:cubicBezTo>
              </a:path>
              <a:path w="2283" h="1440">
                <a:moveTo>
                  <a:pt x="19546" y="12278"/>
                </a:moveTo>
                <a:cubicBezTo>
                  <a:pt x="19465" y="12399"/>
                  <a:pt x="19422" y="12417"/>
                  <a:pt x="19472" y="12502"/>
                </a:cubicBezTo>
                <a:cubicBezTo>
                  <a:pt x="19653" y="12461"/>
                  <a:pt x="19645" y="12490"/>
                  <a:pt x="19645" y="123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17920" y="5572080"/>
            <a:ext cx="1893960" cy="536760"/>
          </a:xfrm>
          <a:custGeom>
            <a:avLst/>
            <a:gdLst/>
            <a:ahLst/>
            <a:rect l="l" t="t" r="r" b="b"/>
            <a:pathLst>
              <a:path w="5260" h="1489">
                <a:moveTo>
                  <a:pt x="10393" y="15776"/>
                </a:moveTo>
                <a:cubicBezTo>
                  <a:pt x="10231" y="15807"/>
                  <a:pt x="10143" y="15858"/>
                  <a:pt x="9996" y="15949"/>
                </a:cubicBezTo>
                <a:cubicBezTo>
                  <a:pt x="10227" y="16065"/>
                  <a:pt x="10391" y="16128"/>
                  <a:pt x="10567" y="16321"/>
                </a:cubicBezTo>
                <a:cubicBezTo>
                  <a:pt x="10448" y="16394"/>
                  <a:pt x="9779" y="16719"/>
                  <a:pt x="9773" y="16321"/>
                </a:cubicBezTo>
                <a:cubicBezTo>
                  <a:pt x="9814" y="16238"/>
                  <a:pt x="9856" y="16156"/>
                  <a:pt x="9897" y="16073"/>
                </a:cubicBezTo>
              </a:path>
              <a:path w="5260" h="1489">
                <a:moveTo>
                  <a:pt x="10815" y="15553"/>
                </a:moveTo>
                <a:cubicBezTo>
                  <a:pt x="10823" y="15683"/>
                  <a:pt x="10911" y="16332"/>
                  <a:pt x="10840" y="16346"/>
                </a:cubicBezTo>
              </a:path>
              <a:path w="5260" h="1489">
                <a:moveTo>
                  <a:pt x="10517" y="15925"/>
                </a:moveTo>
                <a:cubicBezTo>
                  <a:pt x="10784" y="15909"/>
                  <a:pt x="11213" y="15768"/>
                  <a:pt x="11286" y="16123"/>
                </a:cubicBezTo>
                <a:cubicBezTo>
                  <a:pt x="11286" y="16214"/>
                  <a:pt x="11286" y="16222"/>
                  <a:pt x="11286" y="16272"/>
                </a:cubicBezTo>
                <a:cubicBezTo>
                  <a:pt x="11193" y="16201"/>
                  <a:pt x="11188" y="15955"/>
                  <a:pt x="11261" y="15850"/>
                </a:cubicBezTo>
                <a:cubicBezTo>
                  <a:pt x="11410" y="15751"/>
                  <a:pt x="11460" y="15718"/>
                  <a:pt x="11559" y="15652"/>
                </a:cubicBezTo>
              </a:path>
              <a:path w="5260" h="1489">
                <a:moveTo>
                  <a:pt x="12005" y="15900"/>
                </a:moveTo>
                <a:cubicBezTo>
                  <a:pt x="11767" y="15725"/>
                  <a:pt x="11626" y="15880"/>
                  <a:pt x="11534" y="16148"/>
                </a:cubicBezTo>
                <a:cubicBezTo>
                  <a:pt x="11394" y="16555"/>
                  <a:pt x="11955" y="16079"/>
                  <a:pt x="12005" y="16024"/>
                </a:cubicBezTo>
                <a:cubicBezTo>
                  <a:pt x="11985" y="15657"/>
                  <a:pt x="11981" y="16097"/>
                  <a:pt x="12105" y="16197"/>
                </a:cubicBezTo>
                <a:cubicBezTo>
                  <a:pt x="12253" y="16318"/>
                  <a:pt x="12356" y="15735"/>
                  <a:pt x="12452" y="15900"/>
                </a:cubicBezTo>
                <a:cubicBezTo>
                  <a:pt x="12534" y="16040"/>
                  <a:pt x="12422" y="16197"/>
                  <a:pt x="12551" y="16173"/>
                </a:cubicBezTo>
              </a:path>
              <a:path w="5260" h="1489">
                <a:moveTo>
                  <a:pt x="12353" y="15528"/>
                </a:moveTo>
                <a:cubicBezTo>
                  <a:pt x="12353" y="15500"/>
                  <a:pt x="12355" y="15494"/>
                  <a:pt x="12378" y="15528"/>
                </a:cubicBezTo>
              </a:path>
              <a:path w="5260" h="1489">
                <a:moveTo>
                  <a:pt x="12378" y="15528"/>
                </a:moveTo>
                <a:lnTo>
                  <a:pt x="12378" y="15528"/>
                </a:lnTo>
              </a:path>
              <a:path w="5260" h="1489">
                <a:moveTo>
                  <a:pt x="13047" y="15925"/>
                </a:moveTo>
                <a:cubicBezTo>
                  <a:pt x="12950" y="15984"/>
                  <a:pt x="12537" y="16473"/>
                  <a:pt x="12898" y="16297"/>
                </a:cubicBezTo>
                <a:cubicBezTo>
                  <a:pt x="13044" y="16176"/>
                  <a:pt x="13092" y="16139"/>
                  <a:pt x="13097" y="15999"/>
                </a:cubicBezTo>
                <a:cubicBezTo>
                  <a:pt x="13089" y="15949"/>
                  <a:pt x="13080" y="15900"/>
                  <a:pt x="13072" y="15850"/>
                </a:cubicBezTo>
                <a:cubicBezTo>
                  <a:pt x="13118" y="16112"/>
                  <a:pt x="13344" y="16740"/>
                  <a:pt x="13072" y="16942"/>
                </a:cubicBezTo>
                <a:cubicBezTo>
                  <a:pt x="12855" y="17103"/>
                  <a:pt x="12732" y="16861"/>
                  <a:pt x="12650" y="16743"/>
                </a:cubicBezTo>
              </a:path>
              <a:path w="5260" h="1489">
                <a:moveTo>
                  <a:pt x="13444" y="15627"/>
                </a:moveTo>
                <a:cubicBezTo>
                  <a:pt x="13459" y="15869"/>
                  <a:pt x="13469" y="16103"/>
                  <a:pt x="13469" y="16346"/>
                </a:cubicBezTo>
                <a:cubicBezTo>
                  <a:pt x="13494" y="16144"/>
                  <a:pt x="13532" y="15951"/>
                  <a:pt x="13643" y="15776"/>
                </a:cubicBezTo>
                <a:cubicBezTo>
                  <a:pt x="13698" y="15689"/>
                  <a:pt x="13783" y="16231"/>
                  <a:pt x="13891" y="16272"/>
                </a:cubicBezTo>
                <a:cubicBezTo>
                  <a:pt x="14178" y="16382"/>
                  <a:pt x="14205" y="15702"/>
                  <a:pt x="14213" y="15602"/>
                </a:cubicBezTo>
                <a:cubicBezTo>
                  <a:pt x="14205" y="15561"/>
                  <a:pt x="14196" y="15519"/>
                  <a:pt x="14188" y="15478"/>
                </a:cubicBezTo>
                <a:cubicBezTo>
                  <a:pt x="14188" y="15667"/>
                  <a:pt x="14096" y="16204"/>
                  <a:pt x="14238" y="16346"/>
                </a:cubicBezTo>
                <a:cubicBezTo>
                  <a:pt x="14238" y="16313"/>
                  <a:pt x="14238" y="16280"/>
                  <a:pt x="14238" y="16247"/>
                </a:cubicBezTo>
              </a:path>
              <a:path w="5260" h="1489">
                <a:moveTo>
                  <a:pt x="13965" y="15776"/>
                </a:moveTo>
                <a:cubicBezTo>
                  <a:pt x="14335" y="15732"/>
                  <a:pt x="14667" y="15662"/>
                  <a:pt x="15032" y="155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03920" y="5616720"/>
            <a:ext cx="196920" cy="71280"/>
          </a:xfrm>
          <a:custGeom>
            <a:avLst/>
            <a:gdLst/>
            <a:ahLst/>
            <a:rect l="l" t="t" r="r" b="b"/>
            <a:pathLst>
              <a:path w="547" h="200">
                <a:moveTo>
                  <a:pt x="16197" y="15627"/>
                </a:moveTo>
                <a:cubicBezTo>
                  <a:pt x="16400" y="15610"/>
                  <a:pt x="16558" y="15579"/>
                  <a:pt x="16594" y="15652"/>
                </a:cubicBezTo>
              </a:path>
              <a:path w="547" h="200">
                <a:moveTo>
                  <a:pt x="16123" y="15801"/>
                </a:moveTo>
                <a:cubicBezTo>
                  <a:pt x="16388" y="15774"/>
                  <a:pt x="16487" y="15765"/>
                  <a:pt x="16669" y="157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2240" y="5348160"/>
            <a:ext cx="822600" cy="465120"/>
          </a:xfrm>
          <a:custGeom>
            <a:avLst/>
            <a:gdLst/>
            <a:ahLst/>
            <a:rect l="l" t="t" r="r" b="b"/>
            <a:pathLst>
              <a:path w="2283" h="1291">
                <a:moveTo>
                  <a:pt x="17810" y="15453"/>
                </a:moveTo>
                <a:cubicBezTo>
                  <a:pt x="17799" y="15645"/>
                  <a:pt x="17646" y="16159"/>
                  <a:pt x="17909" y="16098"/>
                </a:cubicBezTo>
              </a:path>
              <a:path w="2283" h="1291">
                <a:moveTo>
                  <a:pt x="18678" y="15156"/>
                </a:moveTo>
                <a:cubicBezTo>
                  <a:pt x="18159" y="15328"/>
                  <a:pt x="18230" y="15402"/>
                  <a:pt x="18554" y="15801"/>
                </a:cubicBezTo>
                <a:cubicBezTo>
                  <a:pt x="18612" y="15875"/>
                  <a:pt x="18670" y="15950"/>
                  <a:pt x="18728" y="16024"/>
                </a:cubicBezTo>
                <a:cubicBezTo>
                  <a:pt x="18695" y="16120"/>
                  <a:pt x="18663" y="16145"/>
                  <a:pt x="18554" y="16098"/>
                </a:cubicBezTo>
                <a:cubicBezTo>
                  <a:pt x="18381" y="15805"/>
                  <a:pt x="18670" y="15615"/>
                  <a:pt x="18802" y="15304"/>
                </a:cubicBezTo>
                <a:cubicBezTo>
                  <a:pt x="18802" y="15279"/>
                  <a:pt x="18802" y="15255"/>
                  <a:pt x="18802" y="15230"/>
                </a:cubicBezTo>
              </a:path>
              <a:path w="2283" h="1291">
                <a:moveTo>
                  <a:pt x="19298" y="15230"/>
                </a:moveTo>
                <a:cubicBezTo>
                  <a:pt x="19101" y="15517"/>
                  <a:pt x="19062" y="15542"/>
                  <a:pt x="19124" y="15875"/>
                </a:cubicBezTo>
                <a:cubicBezTo>
                  <a:pt x="19446" y="15905"/>
                  <a:pt x="19778" y="15815"/>
                  <a:pt x="19596" y="15379"/>
                </a:cubicBezTo>
                <a:cubicBezTo>
                  <a:pt x="19473" y="15235"/>
                  <a:pt x="19458" y="15195"/>
                  <a:pt x="19348" y="15156"/>
                </a:cubicBezTo>
              </a:path>
              <a:path w="2283" h="1291">
                <a:moveTo>
                  <a:pt x="19943" y="14858"/>
                </a:moveTo>
                <a:cubicBezTo>
                  <a:pt x="19934" y="15022"/>
                  <a:pt x="19907" y="15020"/>
                  <a:pt x="20042" y="15106"/>
                </a:cubicBezTo>
                <a:cubicBezTo>
                  <a:pt x="20073" y="14973"/>
                  <a:pt x="20089" y="14983"/>
                  <a:pt x="19993" y="149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will identify Complementary, Supplementary, Vertical, Adjacent and Corresponding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62120" y="4894200"/>
            <a:ext cx="4135680" cy="758880"/>
          </a:xfrm>
          <a:custGeom>
            <a:avLst/>
            <a:gdLst/>
            <a:ahLst/>
            <a:rect l="l" t="t" r="r" b="b"/>
            <a:pathLst>
              <a:path w="11486" h="2109">
                <a:moveTo>
                  <a:pt x="13791" y="13593"/>
                </a:moveTo>
                <a:cubicBezTo>
                  <a:pt x="13920" y="13593"/>
                  <a:pt x="14042" y="13597"/>
                  <a:pt x="14163" y="13618"/>
                </a:cubicBezTo>
                <a:cubicBezTo>
                  <a:pt x="14253" y="13634"/>
                  <a:pt x="14346" y="13655"/>
                  <a:pt x="14436" y="13667"/>
                </a:cubicBezTo>
                <a:cubicBezTo>
                  <a:pt x="14873" y="13724"/>
                  <a:pt x="15338" y="13643"/>
                  <a:pt x="15776" y="13643"/>
                </a:cubicBezTo>
                <a:cubicBezTo>
                  <a:pt x="16044" y="13643"/>
                  <a:pt x="16304" y="13623"/>
                  <a:pt x="16570" y="13643"/>
                </a:cubicBezTo>
                <a:cubicBezTo>
                  <a:pt x="16936" y="13671"/>
                  <a:pt x="17295" y="13674"/>
                  <a:pt x="17661" y="13692"/>
                </a:cubicBezTo>
                <a:cubicBezTo>
                  <a:pt x="17931" y="13705"/>
                  <a:pt x="18349" y="13651"/>
                  <a:pt x="18604" y="13742"/>
                </a:cubicBezTo>
                <a:cubicBezTo>
                  <a:pt x="18587" y="13750"/>
                  <a:pt x="18571" y="13759"/>
                  <a:pt x="18554" y="13767"/>
                </a:cubicBezTo>
              </a:path>
              <a:path w="11486" h="2109">
                <a:moveTo>
                  <a:pt x="7119" y="14436"/>
                </a:moveTo>
                <a:cubicBezTo>
                  <a:pt x="7269" y="14464"/>
                  <a:pt x="7411" y="14461"/>
                  <a:pt x="7565" y="14461"/>
                </a:cubicBezTo>
                <a:cubicBezTo>
                  <a:pt x="7782" y="14461"/>
                  <a:pt x="7995" y="14415"/>
                  <a:pt x="8210" y="14387"/>
                </a:cubicBezTo>
                <a:cubicBezTo>
                  <a:pt x="8416" y="14360"/>
                  <a:pt x="8624" y="14326"/>
                  <a:pt x="8830" y="14312"/>
                </a:cubicBezTo>
                <a:cubicBezTo>
                  <a:pt x="8958" y="14304"/>
                  <a:pt x="9103" y="14310"/>
                  <a:pt x="9227" y="14337"/>
                </a:cubicBezTo>
                <a:cubicBezTo>
                  <a:pt x="9351" y="14364"/>
                  <a:pt x="9446" y="14387"/>
                  <a:pt x="9575" y="14387"/>
                </a:cubicBezTo>
                <a:cubicBezTo>
                  <a:pt x="9675" y="14387"/>
                  <a:pt x="9771" y="14407"/>
                  <a:pt x="9872" y="14412"/>
                </a:cubicBezTo>
              </a:path>
              <a:path w="11486" h="2109">
                <a:moveTo>
                  <a:pt x="11708" y="14511"/>
                </a:moveTo>
                <a:cubicBezTo>
                  <a:pt x="11989" y="14446"/>
                  <a:pt x="12283" y="14445"/>
                  <a:pt x="12576" y="14461"/>
                </a:cubicBezTo>
                <a:cubicBezTo>
                  <a:pt x="12760" y="14471"/>
                  <a:pt x="12941" y="14529"/>
                  <a:pt x="13122" y="14536"/>
                </a:cubicBezTo>
                <a:cubicBezTo>
                  <a:pt x="13232" y="14540"/>
                  <a:pt x="13335" y="14555"/>
                  <a:pt x="13444" y="14560"/>
                </a:cubicBezTo>
                <a:cubicBezTo>
                  <a:pt x="13469" y="14561"/>
                  <a:pt x="13494" y="14560"/>
                  <a:pt x="13519" y="14560"/>
                </a:cubicBezTo>
              </a:path>
              <a:path w="11486" h="2109">
                <a:moveTo>
                  <a:pt x="16173" y="14337"/>
                </a:moveTo>
                <a:cubicBezTo>
                  <a:pt x="16145" y="14337"/>
                  <a:pt x="16123" y="14383"/>
                  <a:pt x="16098" y="14412"/>
                </a:cubicBezTo>
              </a:path>
              <a:path w="11486" h="2109">
                <a:moveTo>
                  <a:pt x="11807" y="15701"/>
                </a:moveTo>
                <a:cubicBezTo>
                  <a:pt x="11799" y="15701"/>
                  <a:pt x="11790" y="15701"/>
                  <a:pt x="11782" y="157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tudents will identify Complementary, Supplementary, Vertical, Adjacent and Corresponding Angles</a:t>
            </a: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Complementary Ang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mentary Angle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gles that have a sum of 90 degre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2043360" cy="249552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4952880" y="3581280"/>
            <a:ext cx="2362320" cy="2346480"/>
            <a:chOff x="4952880" y="3581280"/>
            <a:chExt cx="2362320" cy="2346480"/>
          </a:xfrm>
        </p:grpSpPr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4952880" y="3581280"/>
              <a:ext cx="2362320" cy="23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181480" y="48769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5867280" y="5334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20000" y="2313000"/>
            <a:ext cx="625680" cy="527040"/>
          </a:xfrm>
          <a:custGeom>
            <a:avLst/>
            <a:gdLst/>
            <a:ahLst/>
            <a:rect l="l" t="t" r="r" b="b"/>
            <a:pathLst>
              <a:path w="1737" h="1465">
                <a:moveTo>
                  <a:pt x="22423" y="7069"/>
                </a:moveTo>
                <a:cubicBezTo>
                  <a:pt x="22380" y="7094"/>
                  <a:pt x="22044" y="7430"/>
                  <a:pt x="22275" y="7367"/>
                </a:cubicBezTo>
                <a:cubicBezTo>
                  <a:pt x="22385" y="7337"/>
                  <a:pt x="22426" y="7205"/>
                  <a:pt x="22473" y="7119"/>
                </a:cubicBezTo>
                <a:cubicBezTo>
                  <a:pt x="22505" y="7307"/>
                  <a:pt x="22587" y="7466"/>
                  <a:pt x="22523" y="7665"/>
                </a:cubicBezTo>
                <a:cubicBezTo>
                  <a:pt x="22404" y="8038"/>
                  <a:pt x="22114" y="7863"/>
                  <a:pt x="22002" y="7665"/>
                </a:cubicBezTo>
              </a:path>
              <a:path w="1737" h="1465">
                <a:moveTo>
                  <a:pt x="22820" y="6871"/>
                </a:moveTo>
                <a:cubicBezTo>
                  <a:pt x="22820" y="7040"/>
                  <a:pt x="22700" y="7486"/>
                  <a:pt x="22820" y="7367"/>
                </a:cubicBezTo>
                <a:cubicBezTo>
                  <a:pt x="22828" y="7342"/>
                  <a:pt x="22837" y="7318"/>
                  <a:pt x="22845" y="7293"/>
                </a:cubicBezTo>
              </a:path>
              <a:path w="1737" h="1465">
                <a:moveTo>
                  <a:pt x="23019" y="7144"/>
                </a:moveTo>
                <a:cubicBezTo>
                  <a:pt x="23059" y="7134"/>
                  <a:pt x="23196" y="7125"/>
                  <a:pt x="23217" y="7094"/>
                </a:cubicBezTo>
                <a:cubicBezTo>
                  <a:pt x="23217" y="7086"/>
                  <a:pt x="23217" y="7077"/>
                  <a:pt x="23217" y="7069"/>
                </a:cubicBezTo>
                <a:cubicBezTo>
                  <a:pt x="23202" y="6964"/>
                  <a:pt x="23113" y="6939"/>
                  <a:pt x="23019" y="7020"/>
                </a:cubicBezTo>
                <a:cubicBezTo>
                  <a:pt x="22932" y="7128"/>
                  <a:pt x="22899" y="7150"/>
                  <a:pt x="22920" y="7243"/>
                </a:cubicBezTo>
                <a:cubicBezTo>
                  <a:pt x="23167" y="7391"/>
                  <a:pt x="23292" y="7255"/>
                  <a:pt x="23515" y="7094"/>
                </a:cubicBezTo>
              </a:path>
              <a:path w="1737" h="1465">
                <a:moveTo>
                  <a:pt x="23391" y="6424"/>
                </a:moveTo>
                <a:cubicBezTo>
                  <a:pt x="23620" y="6756"/>
                  <a:pt x="23842" y="7041"/>
                  <a:pt x="23688" y="7466"/>
                </a:cubicBezTo>
                <a:cubicBezTo>
                  <a:pt x="23591" y="7612"/>
                  <a:pt x="23562" y="7659"/>
                  <a:pt x="23440" y="76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466120" y="4259160"/>
            <a:ext cx="534960" cy="1366920"/>
          </a:xfrm>
          <a:custGeom>
            <a:avLst/>
            <a:gdLst/>
            <a:ahLst/>
            <a:rect l="l" t="t" r="r" b="b"/>
            <a:pathLst>
              <a:path w="1489" h="3796">
                <a:moveTo>
                  <a:pt x="24234" y="13022"/>
                </a:moveTo>
                <a:cubicBezTo>
                  <a:pt x="24278" y="12915"/>
                  <a:pt x="24290" y="12715"/>
                  <a:pt x="24110" y="12700"/>
                </a:cubicBezTo>
                <a:cubicBezTo>
                  <a:pt x="23931" y="12685"/>
                  <a:pt x="23961" y="12927"/>
                  <a:pt x="23961" y="13022"/>
                </a:cubicBezTo>
                <a:cubicBezTo>
                  <a:pt x="24165" y="13022"/>
                  <a:pt x="24180" y="12989"/>
                  <a:pt x="24284" y="12799"/>
                </a:cubicBezTo>
                <a:cubicBezTo>
                  <a:pt x="24252" y="13025"/>
                  <a:pt x="24154" y="13207"/>
                  <a:pt x="24085" y="13419"/>
                </a:cubicBezTo>
                <a:cubicBezTo>
                  <a:pt x="24085" y="13436"/>
                  <a:pt x="24085" y="13452"/>
                  <a:pt x="24085" y="13469"/>
                </a:cubicBezTo>
              </a:path>
              <a:path w="1489" h="3796">
                <a:moveTo>
                  <a:pt x="24383" y="12700"/>
                </a:moveTo>
                <a:cubicBezTo>
                  <a:pt x="24317" y="12927"/>
                  <a:pt x="24288" y="13078"/>
                  <a:pt x="24383" y="13295"/>
                </a:cubicBezTo>
                <a:cubicBezTo>
                  <a:pt x="24576" y="13216"/>
                  <a:pt x="24750" y="12984"/>
                  <a:pt x="24681" y="12725"/>
                </a:cubicBezTo>
                <a:cubicBezTo>
                  <a:pt x="24626" y="12519"/>
                  <a:pt x="24439" y="12726"/>
                  <a:pt x="24383" y="12774"/>
                </a:cubicBezTo>
              </a:path>
              <a:path w="1489" h="3796">
                <a:moveTo>
                  <a:pt x="23515" y="13767"/>
                </a:moveTo>
                <a:cubicBezTo>
                  <a:pt x="23672" y="13742"/>
                  <a:pt x="23829" y="13717"/>
                  <a:pt x="23986" y="13692"/>
                </a:cubicBezTo>
              </a:path>
              <a:path w="1489" h="3796">
                <a:moveTo>
                  <a:pt x="24011" y="13643"/>
                </a:moveTo>
                <a:cubicBezTo>
                  <a:pt x="24003" y="13718"/>
                  <a:pt x="23992" y="13790"/>
                  <a:pt x="23986" y="13866"/>
                </a:cubicBezTo>
                <a:cubicBezTo>
                  <a:pt x="24198" y="13899"/>
                  <a:pt x="24206" y="13839"/>
                  <a:pt x="24234" y="13643"/>
                </a:cubicBezTo>
              </a:path>
              <a:path w="1489" h="3796">
                <a:moveTo>
                  <a:pt x="24160" y="13494"/>
                </a:moveTo>
                <a:cubicBezTo>
                  <a:pt x="24116" y="13713"/>
                  <a:pt x="24103" y="13950"/>
                  <a:pt x="24036" y="14163"/>
                </a:cubicBezTo>
                <a:cubicBezTo>
                  <a:pt x="23990" y="14209"/>
                  <a:pt x="23999" y="14194"/>
                  <a:pt x="24085" y="14089"/>
                </a:cubicBezTo>
              </a:path>
              <a:path w="1489" h="3796">
                <a:moveTo>
                  <a:pt x="24259" y="13618"/>
                </a:moveTo>
                <a:cubicBezTo>
                  <a:pt x="24318" y="13599"/>
                  <a:pt x="24730" y="13437"/>
                  <a:pt x="24656" y="13618"/>
                </a:cubicBezTo>
                <a:cubicBezTo>
                  <a:pt x="24615" y="13718"/>
                  <a:pt x="24510" y="13775"/>
                  <a:pt x="24433" y="13841"/>
                </a:cubicBezTo>
                <a:cubicBezTo>
                  <a:pt x="24557" y="13818"/>
                  <a:pt x="24867" y="13870"/>
                  <a:pt x="24755" y="14089"/>
                </a:cubicBezTo>
                <a:cubicBezTo>
                  <a:pt x="24676" y="14243"/>
                  <a:pt x="24405" y="14192"/>
                  <a:pt x="24284" y="14188"/>
                </a:cubicBezTo>
              </a:path>
              <a:path w="1489" h="3796">
                <a:moveTo>
                  <a:pt x="23564" y="14610"/>
                </a:moveTo>
                <a:cubicBezTo>
                  <a:pt x="23935" y="14527"/>
                  <a:pt x="24619" y="14495"/>
                  <a:pt x="24954" y="14312"/>
                </a:cubicBezTo>
                <a:cubicBezTo>
                  <a:pt x="24904" y="14304"/>
                  <a:pt x="24855" y="14296"/>
                  <a:pt x="24805" y="14288"/>
                </a:cubicBezTo>
              </a:path>
              <a:path w="1489" h="3796">
                <a:moveTo>
                  <a:pt x="24011" y="12849"/>
                </a:moveTo>
                <a:cubicBezTo>
                  <a:pt x="24050" y="12934"/>
                  <a:pt x="24272" y="13291"/>
                  <a:pt x="24209" y="13419"/>
                </a:cubicBezTo>
                <a:cubicBezTo>
                  <a:pt x="24201" y="13419"/>
                  <a:pt x="24193" y="13419"/>
                  <a:pt x="24185" y="13419"/>
                </a:cubicBezTo>
              </a:path>
              <a:path w="1489" h="3796">
                <a:moveTo>
                  <a:pt x="24110" y="11832"/>
                </a:moveTo>
                <a:cubicBezTo>
                  <a:pt x="24032" y="11858"/>
                  <a:pt x="24005" y="11869"/>
                  <a:pt x="23961" y="11906"/>
                </a:cubicBezTo>
                <a:cubicBezTo>
                  <a:pt x="24013" y="12003"/>
                  <a:pt x="24256" y="12179"/>
                  <a:pt x="24209" y="12303"/>
                </a:cubicBezTo>
                <a:cubicBezTo>
                  <a:pt x="24125" y="12367"/>
                  <a:pt x="24105" y="12379"/>
                  <a:pt x="24061" y="12427"/>
                </a:cubicBezTo>
                <a:cubicBezTo>
                  <a:pt x="24017" y="12241"/>
                  <a:pt x="24136" y="12116"/>
                  <a:pt x="24135" y="11931"/>
                </a:cubicBezTo>
                <a:cubicBezTo>
                  <a:pt x="24127" y="11931"/>
                  <a:pt x="24118" y="11931"/>
                  <a:pt x="24110" y="11931"/>
                </a:cubicBezTo>
              </a:path>
              <a:path w="1489" h="3796">
                <a:moveTo>
                  <a:pt x="24408" y="12154"/>
                </a:moveTo>
                <a:cubicBezTo>
                  <a:pt x="24369" y="12265"/>
                  <a:pt x="24332" y="12371"/>
                  <a:pt x="24284" y="12477"/>
                </a:cubicBezTo>
              </a:path>
              <a:path w="1489" h="3796">
                <a:moveTo>
                  <a:pt x="24606" y="14808"/>
                </a:moveTo>
                <a:cubicBezTo>
                  <a:pt x="24529" y="14808"/>
                  <a:pt x="24704" y="14775"/>
                  <a:pt x="24780" y="14759"/>
                </a:cubicBezTo>
                <a:cubicBezTo>
                  <a:pt x="24853" y="14743"/>
                  <a:pt x="24930" y="14721"/>
                  <a:pt x="25003" y="14709"/>
                </a:cubicBezTo>
                <a:cubicBezTo>
                  <a:pt x="25003" y="14855"/>
                  <a:pt x="24926" y="15023"/>
                  <a:pt x="24879" y="15156"/>
                </a:cubicBezTo>
                <a:cubicBezTo>
                  <a:pt x="24844" y="15256"/>
                  <a:pt x="24784" y="15376"/>
                  <a:pt x="24755" y="15478"/>
                </a:cubicBezTo>
              </a:path>
              <a:path w="1489" h="3796">
                <a:moveTo>
                  <a:pt x="24135" y="15032"/>
                </a:moveTo>
                <a:cubicBezTo>
                  <a:pt x="24146" y="15000"/>
                  <a:pt x="24157" y="14994"/>
                  <a:pt x="24185" y="14957"/>
                </a:cubicBezTo>
                <a:cubicBezTo>
                  <a:pt x="24167" y="15047"/>
                  <a:pt x="24105" y="15123"/>
                  <a:pt x="24061" y="15205"/>
                </a:cubicBezTo>
                <a:cubicBezTo>
                  <a:pt x="24201" y="15214"/>
                  <a:pt x="24293" y="15153"/>
                  <a:pt x="24433" y="15131"/>
                </a:cubicBezTo>
                <a:cubicBezTo>
                  <a:pt x="24441" y="15131"/>
                  <a:pt x="24449" y="15131"/>
                  <a:pt x="24457" y="15131"/>
                </a:cubicBezTo>
              </a:path>
              <a:path w="1489" h="3796">
                <a:moveTo>
                  <a:pt x="24433" y="14734"/>
                </a:moveTo>
                <a:cubicBezTo>
                  <a:pt x="24385" y="15013"/>
                  <a:pt x="24364" y="15293"/>
                  <a:pt x="24333" y="15577"/>
                </a:cubicBezTo>
                <a:cubicBezTo>
                  <a:pt x="24333" y="15618"/>
                  <a:pt x="24342" y="15635"/>
                  <a:pt x="24309" y="156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6160" y="2500200"/>
            <a:ext cx="1598760" cy="1965600"/>
          </a:xfrm>
          <a:custGeom>
            <a:avLst/>
            <a:gdLst/>
            <a:ahLst/>
            <a:rect l="l" t="t" r="r" b="b"/>
            <a:pathLst>
              <a:path w="4441" h="5458">
                <a:moveTo>
                  <a:pt x="18405" y="7392"/>
                </a:moveTo>
                <a:cubicBezTo>
                  <a:pt x="18405" y="7483"/>
                  <a:pt x="18405" y="7507"/>
                  <a:pt x="18405" y="7565"/>
                </a:cubicBezTo>
                <a:cubicBezTo>
                  <a:pt x="18405" y="7428"/>
                  <a:pt x="18397" y="7296"/>
                  <a:pt x="18504" y="7193"/>
                </a:cubicBezTo>
                <a:cubicBezTo>
                  <a:pt x="18606" y="7095"/>
                  <a:pt x="18699" y="7155"/>
                  <a:pt x="18802" y="7193"/>
                </a:cubicBezTo>
              </a:path>
              <a:path w="4441" h="5458">
                <a:moveTo>
                  <a:pt x="18926" y="7218"/>
                </a:moveTo>
                <a:cubicBezTo>
                  <a:pt x="18945" y="7328"/>
                  <a:pt x="18951" y="7428"/>
                  <a:pt x="18951" y="7541"/>
                </a:cubicBezTo>
              </a:path>
              <a:path w="4441" h="5458">
                <a:moveTo>
                  <a:pt x="19000" y="6995"/>
                </a:moveTo>
                <a:cubicBezTo>
                  <a:pt x="19008" y="6995"/>
                  <a:pt x="19017" y="6995"/>
                  <a:pt x="19025" y="6995"/>
                </a:cubicBezTo>
              </a:path>
              <a:path w="4441" h="5458">
                <a:moveTo>
                  <a:pt x="19025" y="6995"/>
                </a:moveTo>
                <a:lnTo>
                  <a:pt x="19025" y="6995"/>
                </a:lnTo>
              </a:path>
              <a:path w="4441" h="5458">
                <a:moveTo>
                  <a:pt x="19422" y="7193"/>
                </a:moveTo>
                <a:cubicBezTo>
                  <a:pt x="19282" y="7216"/>
                  <a:pt x="19211" y="7295"/>
                  <a:pt x="19199" y="7441"/>
                </a:cubicBezTo>
                <a:cubicBezTo>
                  <a:pt x="19186" y="7598"/>
                  <a:pt x="19453" y="7241"/>
                  <a:pt x="19472" y="7193"/>
                </a:cubicBezTo>
                <a:cubicBezTo>
                  <a:pt x="19472" y="7185"/>
                  <a:pt x="19472" y="7177"/>
                  <a:pt x="19472" y="7169"/>
                </a:cubicBezTo>
                <a:cubicBezTo>
                  <a:pt x="19472" y="7411"/>
                  <a:pt x="19531" y="7653"/>
                  <a:pt x="19447" y="7888"/>
                </a:cubicBezTo>
                <a:cubicBezTo>
                  <a:pt x="19331" y="8214"/>
                  <a:pt x="19146" y="8077"/>
                  <a:pt x="19100" y="7863"/>
                </a:cubicBezTo>
              </a:path>
              <a:path w="4441" h="5458">
                <a:moveTo>
                  <a:pt x="19794" y="6945"/>
                </a:moveTo>
                <a:cubicBezTo>
                  <a:pt x="19771" y="7111"/>
                  <a:pt x="19749" y="7276"/>
                  <a:pt x="19720" y="7441"/>
                </a:cubicBezTo>
                <a:cubicBezTo>
                  <a:pt x="19756" y="7334"/>
                  <a:pt x="19789" y="7061"/>
                  <a:pt x="19943" y="7193"/>
                </a:cubicBezTo>
                <a:cubicBezTo>
                  <a:pt x="20032" y="7269"/>
                  <a:pt x="20051" y="7363"/>
                  <a:pt x="20067" y="7466"/>
                </a:cubicBezTo>
              </a:path>
              <a:path w="4441" h="5458">
                <a:moveTo>
                  <a:pt x="20340" y="6945"/>
                </a:moveTo>
                <a:cubicBezTo>
                  <a:pt x="20302" y="7096"/>
                  <a:pt x="20318" y="7238"/>
                  <a:pt x="20340" y="7392"/>
                </a:cubicBezTo>
                <a:cubicBezTo>
                  <a:pt x="20340" y="7435"/>
                  <a:pt x="20346" y="7426"/>
                  <a:pt x="20365" y="7342"/>
                </a:cubicBezTo>
              </a:path>
              <a:path w="4441" h="5458">
                <a:moveTo>
                  <a:pt x="20117" y="7193"/>
                </a:moveTo>
                <a:cubicBezTo>
                  <a:pt x="20280" y="7157"/>
                  <a:pt x="20397" y="7144"/>
                  <a:pt x="20563" y="7144"/>
                </a:cubicBezTo>
              </a:path>
              <a:path w="4441" h="5458">
                <a:moveTo>
                  <a:pt x="20563" y="7144"/>
                </a:moveTo>
                <a:lnTo>
                  <a:pt x="20563" y="7144"/>
                </a:lnTo>
              </a:path>
              <a:path w="4441" h="5458">
                <a:moveTo>
                  <a:pt x="21506" y="7243"/>
                </a:moveTo>
                <a:cubicBezTo>
                  <a:pt x="21411" y="7092"/>
                  <a:pt x="21276" y="7107"/>
                  <a:pt x="21158" y="7268"/>
                </a:cubicBezTo>
                <a:cubicBezTo>
                  <a:pt x="20959" y="7541"/>
                  <a:pt x="21265" y="7506"/>
                  <a:pt x="21406" y="7342"/>
                </a:cubicBezTo>
                <a:cubicBezTo>
                  <a:pt x="21423" y="7317"/>
                  <a:pt x="21439" y="7293"/>
                  <a:pt x="21456" y="7268"/>
                </a:cubicBezTo>
                <a:cubicBezTo>
                  <a:pt x="21514" y="7340"/>
                  <a:pt x="21561" y="7431"/>
                  <a:pt x="21679" y="7392"/>
                </a:cubicBezTo>
                <a:cubicBezTo>
                  <a:pt x="21766" y="7364"/>
                  <a:pt x="21828" y="7242"/>
                  <a:pt x="21828" y="7342"/>
                </a:cubicBezTo>
                <a:cubicBezTo>
                  <a:pt x="21828" y="7367"/>
                  <a:pt x="21828" y="7375"/>
                  <a:pt x="21828" y="7342"/>
                </a:cubicBezTo>
                <a:cubicBezTo>
                  <a:pt x="21856" y="7165"/>
                  <a:pt x="21841" y="7169"/>
                  <a:pt x="22002" y="7094"/>
                </a:cubicBezTo>
                <a:cubicBezTo>
                  <a:pt x="22090" y="7227"/>
                  <a:pt x="22101" y="7299"/>
                  <a:pt x="22101" y="7466"/>
                </a:cubicBezTo>
              </a:path>
              <a:path w="4441" h="5458">
                <a:moveTo>
                  <a:pt x="20786" y="8855"/>
                </a:moveTo>
                <a:cubicBezTo>
                  <a:pt x="20822" y="8997"/>
                  <a:pt x="20770" y="9170"/>
                  <a:pt x="20762" y="9327"/>
                </a:cubicBezTo>
                <a:cubicBezTo>
                  <a:pt x="20752" y="9521"/>
                  <a:pt x="20836" y="9827"/>
                  <a:pt x="21109" y="9699"/>
                </a:cubicBezTo>
                <a:cubicBezTo>
                  <a:pt x="21285" y="9616"/>
                  <a:pt x="21289" y="9510"/>
                  <a:pt x="21307" y="9351"/>
                </a:cubicBezTo>
                <a:cubicBezTo>
                  <a:pt x="21162" y="9294"/>
                  <a:pt x="21050" y="9266"/>
                  <a:pt x="20985" y="9451"/>
                </a:cubicBezTo>
                <a:cubicBezTo>
                  <a:pt x="20877" y="9757"/>
                  <a:pt x="21006" y="9807"/>
                  <a:pt x="21183" y="9575"/>
                </a:cubicBezTo>
              </a:path>
              <a:path w="4441" h="5458">
                <a:moveTo>
                  <a:pt x="21779" y="8582"/>
                </a:moveTo>
                <a:cubicBezTo>
                  <a:pt x="21679" y="8639"/>
                  <a:pt x="21487" y="8695"/>
                  <a:pt x="21431" y="8806"/>
                </a:cubicBezTo>
                <a:cubicBezTo>
                  <a:pt x="21411" y="8866"/>
                  <a:pt x="21412" y="8880"/>
                  <a:pt x="21382" y="8905"/>
                </a:cubicBezTo>
                <a:cubicBezTo>
                  <a:pt x="21433" y="9008"/>
                  <a:pt x="21600" y="8880"/>
                  <a:pt x="21704" y="8880"/>
                </a:cubicBezTo>
                <a:cubicBezTo>
                  <a:pt x="21994" y="8880"/>
                  <a:pt x="21968" y="9157"/>
                  <a:pt x="21779" y="9302"/>
                </a:cubicBezTo>
                <a:cubicBezTo>
                  <a:pt x="21609" y="9374"/>
                  <a:pt x="21555" y="9400"/>
                  <a:pt x="21431" y="9351"/>
                </a:cubicBezTo>
              </a:path>
              <a:path w="4441" h="5458">
                <a:moveTo>
                  <a:pt x="20910" y="10269"/>
                </a:moveTo>
                <a:cubicBezTo>
                  <a:pt x="21034" y="10180"/>
                  <a:pt x="21058" y="10187"/>
                  <a:pt x="21208" y="10195"/>
                </a:cubicBezTo>
                <a:cubicBezTo>
                  <a:pt x="21297" y="10500"/>
                  <a:pt x="21214" y="10684"/>
                  <a:pt x="20886" y="10815"/>
                </a:cubicBezTo>
                <a:cubicBezTo>
                  <a:pt x="20836" y="10823"/>
                  <a:pt x="20787" y="10832"/>
                  <a:pt x="20737" y="10840"/>
                </a:cubicBezTo>
                <a:cubicBezTo>
                  <a:pt x="20736" y="10618"/>
                  <a:pt x="20843" y="10461"/>
                  <a:pt x="21109" y="10517"/>
                </a:cubicBezTo>
                <a:cubicBezTo>
                  <a:pt x="21226" y="10542"/>
                  <a:pt x="21322" y="10639"/>
                  <a:pt x="21406" y="10716"/>
                </a:cubicBezTo>
              </a:path>
              <a:path w="4441" h="5458">
                <a:moveTo>
                  <a:pt x="21903" y="9823"/>
                </a:moveTo>
                <a:cubicBezTo>
                  <a:pt x="21857" y="9842"/>
                  <a:pt x="21652" y="9892"/>
                  <a:pt x="21630" y="9947"/>
                </a:cubicBezTo>
                <a:cubicBezTo>
                  <a:pt x="21603" y="10053"/>
                  <a:pt x="21595" y="10093"/>
                  <a:pt x="21605" y="10170"/>
                </a:cubicBezTo>
                <a:cubicBezTo>
                  <a:pt x="21670" y="10214"/>
                  <a:pt x="21848" y="10051"/>
                  <a:pt x="21977" y="10071"/>
                </a:cubicBezTo>
                <a:cubicBezTo>
                  <a:pt x="22367" y="10133"/>
                  <a:pt x="22120" y="10438"/>
                  <a:pt x="21903" y="10517"/>
                </a:cubicBezTo>
                <a:cubicBezTo>
                  <a:pt x="21757" y="10538"/>
                  <a:pt x="21723" y="10562"/>
                  <a:pt x="21654" y="10492"/>
                </a:cubicBezTo>
              </a:path>
              <a:path w="4441" h="5458">
                <a:moveTo>
                  <a:pt x="19869" y="11137"/>
                </a:moveTo>
                <a:cubicBezTo>
                  <a:pt x="20109" y="11075"/>
                  <a:pt x="20489" y="11017"/>
                  <a:pt x="20762" y="10964"/>
                </a:cubicBezTo>
                <a:cubicBezTo>
                  <a:pt x="21224" y="10874"/>
                  <a:pt x="21681" y="10766"/>
                  <a:pt x="22151" y="10740"/>
                </a:cubicBezTo>
                <a:cubicBezTo>
                  <a:pt x="22159" y="10740"/>
                  <a:pt x="22167" y="10740"/>
                  <a:pt x="22175" y="10740"/>
                </a:cubicBezTo>
              </a:path>
              <a:path w="4441" h="5458">
                <a:moveTo>
                  <a:pt x="22175" y="11162"/>
                </a:moveTo>
                <a:cubicBezTo>
                  <a:pt x="21896" y="11331"/>
                  <a:pt x="21869" y="11551"/>
                  <a:pt x="21803" y="11857"/>
                </a:cubicBezTo>
                <a:cubicBezTo>
                  <a:pt x="22021" y="11960"/>
                  <a:pt x="22388" y="11917"/>
                  <a:pt x="22349" y="11534"/>
                </a:cubicBezTo>
                <a:cubicBezTo>
                  <a:pt x="22328" y="11326"/>
                  <a:pt x="22102" y="11298"/>
                  <a:pt x="21952" y="11237"/>
                </a:cubicBezTo>
              </a:path>
              <a:path w="4441" h="5458">
                <a:moveTo>
                  <a:pt x="20712" y="7913"/>
                </a:moveTo>
                <a:cubicBezTo>
                  <a:pt x="20753" y="8077"/>
                  <a:pt x="20803" y="8240"/>
                  <a:pt x="20836" y="8409"/>
                </a:cubicBezTo>
              </a:path>
              <a:path w="4441" h="5458">
                <a:moveTo>
                  <a:pt x="21208" y="11683"/>
                </a:moveTo>
                <a:cubicBezTo>
                  <a:pt x="21241" y="11484"/>
                  <a:pt x="21171" y="11398"/>
                  <a:pt x="21034" y="11261"/>
                </a:cubicBezTo>
                <a:cubicBezTo>
                  <a:pt x="20968" y="11307"/>
                  <a:pt x="20520" y="11783"/>
                  <a:pt x="20836" y="11832"/>
                </a:cubicBezTo>
                <a:cubicBezTo>
                  <a:pt x="21034" y="11863"/>
                  <a:pt x="21108" y="11507"/>
                  <a:pt x="21158" y="11385"/>
                </a:cubicBezTo>
                <a:cubicBezTo>
                  <a:pt x="21214" y="11575"/>
                  <a:pt x="21253" y="11779"/>
                  <a:pt x="21282" y="11981"/>
                </a:cubicBezTo>
                <a:cubicBezTo>
                  <a:pt x="21284" y="11998"/>
                  <a:pt x="21288" y="12482"/>
                  <a:pt x="21307" y="12353"/>
                </a:cubicBezTo>
                <a:cubicBezTo>
                  <a:pt x="21315" y="12303"/>
                  <a:pt x="21324" y="12254"/>
                  <a:pt x="21332" y="12204"/>
                </a:cubicBezTo>
              </a:path>
              <a:path w="4441" h="5458">
                <a:moveTo>
                  <a:pt x="22696" y="10790"/>
                </a:moveTo>
                <a:cubicBezTo>
                  <a:pt x="22606" y="10790"/>
                  <a:pt x="22558" y="10934"/>
                  <a:pt x="22572" y="11013"/>
                </a:cubicBezTo>
                <a:cubicBezTo>
                  <a:pt x="22589" y="11030"/>
                  <a:pt x="22605" y="11046"/>
                  <a:pt x="22622" y="11063"/>
                </a:cubicBezTo>
                <a:cubicBezTo>
                  <a:pt x="22686" y="11035"/>
                  <a:pt x="23001" y="10855"/>
                  <a:pt x="22796" y="10765"/>
                </a:cubicBezTo>
                <a:cubicBezTo>
                  <a:pt x="22763" y="10765"/>
                  <a:pt x="22729" y="10765"/>
                  <a:pt x="22696" y="107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99240" y="5037120"/>
            <a:ext cx="822600" cy="1357200"/>
          </a:xfrm>
          <a:custGeom>
            <a:avLst/>
            <a:gdLst/>
            <a:ahLst/>
            <a:rect l="l" t="t" r="r" b="b"/>
            <a:pathLst>
              <a:path w="2283" h="3771">
                <a:moveTo>
                  <a:pt x="21903" y="14312"/>
                </a:moveTo>
                <a:cubicBezTo>
                  <a:pt x="21793" y="14676"/>
                  <a:pt x="21651" y="14993"/>
                  <a:pt x="21456" y="15329"/>
                </a:cubicBezTo>
                <a:cubicBezTo>
                  <a:pt x="21250" y="15639"/>
                  <a:pt x="21200" y="15696"/>
                  <a:pt x="21109" y="15900"/>
                </a:cubicBezTo>
                <a:cubicBezTo>
                  <a:pt x="21620" y="15882"/>
                  <a:pt x="22177" y="15714"/>
                  <a:pt x="22696" y="15627"/>
                </a:cubicBezTo>
                <a:cubicBezTo>
                  <a:pt x="22809" y="15608"/>
                  <a:pt x="23084" y="15599"/>
                  <a:pt x="23168" y="15602"/>
                </a:cubicBezTo>
              </a:path>
              <a:path w="2283" h="3771">
                <a:moveTo>
                  <a:pt x="21952" y="15007"/>
                </a:moveTo>
                <a:cubicBezTo>
                  <a:pt x="21868" y="15113"/>
                  <a:pt x="21854" y="15141"/>
                  <a:pt x="21779" y="15180"/>
                </a:cubicBezTo>
                <a:cubicBezTo>
                  <a:pt x="21889" y="15115"/>
                  <a:pt x="22051" y="15171"/>
                  <a:pt x="22175" y="15180"/>
                </a:cubicBezTo>
                <a:cubicBezTo>
                  <a:pt x="22200" y="15180"/>
                  <a:pt x="22225" y="15180"/>
                  <a:pt x="22250" y="15180"/>
                </a:cubicBezTo>
              </a:path>
              <a:path w="2283" h="3771">
                <a:moveTo>
                  <a:pt x="22299" y="14784"/>
                </a:moveTo>
                <a:cubicBezTo>
                  <a:pt x="22262" y="14962"/>
                  <a:pt x="22232" y="15396"/>
                  <a:pt x="22126" y="15528"/>
                </a:cubicBezTo>
              </a:path>
              <a:path w="2283" h="3771">
                <a:moveTo>
                  <a:pt x="22523" y="14560"/>
                </a:moveTo>
                <a:cubicBezTo>
                  <a:pt x="22646" y="14508"/>
                  <a:pt x="22880" y="14476"/>
                  <a:pt x="22771" y="14709"/>
                </a:cubicBezTo>
                <a:cubicBezTo>
                  <a:pt x="22738" y="14750"/>
                  <a:pt x="22704" y="14792"/>
                  <a:pt x="22671" y="14833"/>
                </a:cubicBezTo>
                <a:cubicBezTo>
                  <a:pt x="22655" y="14850"/>
                  <a:pt x="22638" y="14866"/>
                  <a:pt x="22622" y="14883"/>
                </a:cubicBezTo>
                <a:cubicBezTo>
                  <a:pt x="22714" y="14767"/>
                  <a:pt x="22937" y="14795"/>
                  <a:pt x="22895" y="15007"/>
                </a:cubicBezTo>
                <a:cubicBezTo>
                  <a:pt x="22831" y="15330"/>
                  <a:pt x="22543" y="15353"/>
                  <a:pt x="22374" y="15205"/>
                </a:cubicBezTo>
              </a:path>
              <a:path w="2283" h="3771">
                <a:moveTo>
                  <a:pt x="23044" y="13990"/>
                </a:moveTo>
                <a:cubicBezTo>
                  <a:pt x="22999" y="14085"/>
                  <a:pt x="22978" y="14153"/>
                  <a:pt x="22969" y="14263"/>
                </a:cubicBezTo>
                <a:cubicBezTo>
                  <a:pt x="22993" y="14248"/>
                  <a:pt x="23216" y="14032"/>
                  <a:pt x="23068" y="14015"/>
                </a:cubicBezTo>
                <a:cubicBezTo>
                  <a:pt x="23043" y="14023"/>
                  <a:pt x="23019" y="14031"/>
                  <a:pt x="22994" y="14039"/>
                </a:cubicBezTo>
              </a:path>
              <a:path w="2283" h="3771">
                <a:moveTo>
                  <a:pt x="21927" y="14908"/>
                </a:moveTo>
                <a:cubicBezTo>
                  <a:pt x="21927" y="14855"/>
                  <a:pt x="21920" y="14825"/>
                  <a:pt x="21952" y="14784"/>
                </a:cubicBezTo>
                <a:cubicBezTo>
                  <a:pt x="21944" y="14842"/>
                  <a:pt x="21915" y="14873"/>
                  <a:pt x="21903" y="14932"/>
                </a:cubicBezTo>
              </a:path>
              <a:path w="2283" h="3771">
                <a:moveTo>
                  <a:pt x="22225" y="16421"/>
                </a:moveTo>
                <a:cubicBezTo>
                  <a:pt x="22140" y="16591"/>
                  <a:pt x="22037" y="16687"/>
                  <a:pt x="21927" y="16842"/>
                </a:cubicBezTo>
                <a:cubicBezTo>
                  <a:pt x="21707" y="17152"/>
                  <a:pt x="21448" y="17425"/>
                  <a:pt x="21233" y="17735"/>
                </a:cubicBezTo>
                <a:cubicBezTo>
                  <a:pt x="21275" y="17721"/>
                  <a:pt x="21265" y="17725"/>
                  <a:pt x="21307" y="17711"/>
                </a:cubicBezTo>
                <a:cubicBezTo>
                  <a:pt x="21710" y="17577"/>
                  <a:pt x="22107" y="17494"/>
                  <a:pt x="22523" y="17413"/>
                </a:cubicBezTo>
                <a:cubicBezTo>
                  <a:pt x="22532" y="17411"/>
                  <a:pt x="23154" y="17283"/>
                  <a:pt x="23143" y="17314"/>
                </a:cubicBezTo>
                <a:cubicBezTo>
                  <a:pt x="23113" y="17343"/>
                  <a:pt x="23098" y="17354"/>
                  <a:pt x="23068" y="17363"/>
                </a:cubicBezTo>
              </a:path>
              <a:path w="2283" h="3771">
                <a:moveTo>
                  <a:pt x="22225" y="16743"/>
                </a:moveTo>
                <a:cubicBezTo>
                  <a:pt x="22219" y="16843"/>
                  <a:pt x="22200" y="16941"/>
                  <a:pt x="22200" y="17041"/>
                </a:cubicBezTo>
                <a:cubicBezTo>
                  <a:pt x="22309" y="17025"/>
                  <a:pt x="22415" y="16989"/>
                  <a:pt x="22523" y="16966"/>
                </a:cubicBezTo>
                <a:cubicBezTo>
                  <a:pt x="22531" y="16966"/>
                  <a:pt x="22539" y="16966"/>
                  <a:pt x="22547" y="16966"/>
                </a:cubicBezTo>
              </a:path>
              <a:path w="2283" h="3771">
                <a:moveTo>
                  <a:pt x="22448" y="16818"/>
                </a:moveTo>
                <a:cubicBezTo>
                  <a:pt x="22465" y="16966"/>
                  <a:pt x="22486" y="17116"/>
                  <a:pt x="22498" y="17264"/>
                </a:cubicBezTo>
              </a:path>
              <a:path w="2283" h="3771">
                <a:moveTo>
                  <a:pt x="22696" y="16669"/>
                </a:moveTo>
                <a:cubicBezTo>
                  <a:pt x="22808" y="16677"/>
                  <a:pt x="22883" y="16633"/>
                  <a:pt x="22994" y="16619"/>
                </a:cubicBezTo>
                <a:cubicBezTo>
                  <a:pt x="23027" y="16807"/>
                  <a:pt x="23014" y="16977"/>
                  <a:pt x="22994" y="17165"/>
                </a:cubicBezTo>
                <a:cubicBezTo>
                  <a:pt x="22994" y="17206"/>
                  <a:pt x="22986" y="17222"/>
                  <a:pt x="23019" y="17214"/>
                </a:cubicBezTo>
              </a:path>
              <a:path w="2283" h="3771">
                <a:moveTo>
                  <a:pt x="23242" y="16173"/>
                </a:moveTo>
                <a:cubicBezTo>
                  <a:pt x="23223" y="16266"/>
                  <a:pt x="23203" y="16294"/>
                  <a:pt x="23242" y="16371"/>
                </a:cubicBezTo>
                <a:cubicBezTo>
                  <a:pt x="23276" y="16360"/>
                  <a:pt x="23486" y="16219"/>
                  <a:pt x="23366" y="16197"/>
                </a:cubicBezTo>
                <a:cubicBezTo>
                  <a:pt x="23333" y="16197"/>
                  <a:pt x="23300" y="16197"/>
                  <a:pt x="23267" y="161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43760" y="2633760"/>
            <a:ext cx="241200" cy="117360"/>
          </a:xfrm>
          <a:custGeom>
            <a:avLst/>
            <a:gdLst/>
            <a:ahLst/>
            <a:rect l="l" t="t" r="r" b="b"/>
            <a:pathLst>
              <a:path w="670" h="324">
                <a:moveTo>
                  <a:pt x="17363" y="7466"/>
                </a:moveTo>
                <a:cubicBezTo>
                  <a:pt x="17351" y="7371"/>
                  <a:pt x="17268" y="7247"/>
                  <a:pt x="17140" y="7317"/>
                </a:cubicBezTo>
                <a:cubicBezTo>
                  <a:pt x="17011" y="7388"/>
                  <a:pt x="17053" y="7739"/>
                  <a:pt x="17214" y="7640"/>
                </a:cubicBezTo>
                <a:cubicBezTo>
                  <a:pt x="17304" y="7529"/>
                  <a:pt x="17330" y="7502"/>
                  <a:pt x="17363" y="7417"/>
                </a:cubicBezTo>
                <a:cubicBezTo>
                  <a:pt x="17382" y="7509"/>
                  <a:pt x="17406" y="7657"/>
                  <a:pt x="17537" y="7640"/>
                </a:cubicBezTo>
                <a:cubicBezTo>
                  <a:pt x="17603" y="7615"/>
                  <a:pt x="17669" y="7590"/>
                  <a:pt x="17735" y="75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2633760"/>
            <a:ext cx="133560" cy="14436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15949" y="7466"/>
                </a:moveTo>
                <a:cubicBezTo>
                  <a:pt x="16043" y="7466"/>
                  <a:pt x="16157" y="7511"/>
                  <a:pt x="16173" y="7417"/>
                </a:cubicBezTo>
                <a:cubicBezTo>
                  <a:pt x="16158" y="7269"/>
                  <a:pt x="16067" y="7287"/>
                  <a:pt x="15974" y="7417"/>
                </a:cubicBezTo>
                <a:cubicBezTo>
                  <a:pt x="15754" y="7725"/>
                  <a:pt x="16072" y="7702"/>
                  <a:pt x="16272" y="76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81800" y="2598840"/>
            <a:ext cx="98280" cy="179280"/>
          </a:xfrm>
          <a:custGeom>
            <a:avLst/>
            <a:gdLst/>
            <a:ahLst/>
            <a:rect l="l" t="t" r="r" b="b"/>
            <a:pathLst>
              <a:path w="274" h="497">
                <a:moveTo>
                  <a:pt x="15652" y="7218"/>
                </a:moveTo>
                <a:cubicBezTo>
                  <a:pt x="15569" y="7301"/>
                  <a:pt x="15553" y="7317"/>
                  <a:pt x="15503" y="7367"/>
                </a:cubicBezTo>
                <a:cubicBezTo>
                  <a:pt x="15600" y="7318"/>
                  <a:pt x="15652" y="7483"/>
                  <a:pt x="15677" y="7565"/>
                </a:cubicBezTo>
                <a:cubicBezTo>
                  <a:pt x="15723" y="7716"/>
                  <a:pt x="15654" y="7747"/>
                  <a:pt x="15776" y="76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45080" y="2571840"/>
            <a:ext cx="9720" cy="187200"/>
          </a:xfrm>
          <a:custGeom>
            <a:avLst/>
            <a:gdLst/>
            <a:ahLst/>
            <a:rect l="l" t="t" r="r" b="b"/>
            <a:pathLst>
              <a:path w="26" h="522">
                <a:moveTo>
                  <a:pt x="15404" y="7144"/>
                </a:moveTo>
                <a:cubicBezTo>
                  <a:pt x="15418" y="7319"/>
                  <a:pt x="15429" y="7489"/>
                  <a:pt x="15429" y="76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0880" y="2643120"/>
            <a:ext cx="187200" cy="135000"/>
          </a:xfrm>
          <a:custGeom>
            <a:avLst/>
            <a:gdLst/>
            <a:ahLst/>
            <a:rect l="l" t="t" r="r" b="b"/>
            <a:pathLst>
              <a:path w="522" h="373">
                <a:moveTo>
                  <a:pt x="15081" y="7441"/>
                </a:moveTo>
                <a:cubicBezTo>
                  <a:pt x="15050" y="7282"/>
                  <a:pt x="14914" y="7312"/>
                  <a:pt x="14833" y="7466"/>
                </a:cubicBezTo>
                <a:cubicBezTo>
                  <a:pt x="14745" y="7634"/>
                  <a:pt x="14865" y="7748"/>
                  <a:pt x="15007" y="7615"/>
                </a:cubicBezTo>
                <a:cubicBezTo>
                  <a:pt x="15032" y="7582"/>
                  <a:pt x="15056" y="7549"/>
                  <a:pt x="15081" y="7516"/>
                </a:cubicBezTo>
                <a:cubicBezTo>
                  <a:pt x="15081" y="7508"/>
                  <a:pt x="15081" y="7499"/>
                  <a:pt x="15081" y="7491"/>
                </a:cubicBezTo>
                <a:cubicBezTo>
                  <a:pt x="15123" y="7561"/>
                  <a:pt x="15145" y="7694"/>
                  <a:pt x="15255" y="7714"/>
                </a:cubicBezTo>
                <a:cubicBezTo>
                  <a:pt x="15280" y="7706"/>
                  <a:pt x="15304" y="7697"/>
                  <a:pt x="15329" y="76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19760" y="2554200"/>
            <a:ext cx="349200" cy="285840"/>
          </a:xfrm>
          <a:custGeom>
            <a:avLst/>
            <a:gdLst/>
            <a:ahLst/>
            <a:rect l="l" t="t" r="r" b="b"/>
            <a:pathLst>
              <a:path w="969" h="795">
                <a:moveTo>
                  <a:pt x="13791" y="7367"/>
                </a:moveTo>
                <a:cubicBezTo>
                  <a:pt x="13761" y="7542"/>
                  <a:pt x="13726" y="7715"/>
                  <a:pt x="13692" y="7888"/>
                </a:cubicBezTo>
                <a:cubicBezTo>
                  <a:pt x="13662" y="7707"/>
                  <a:pt x="13611" y="7416"/>
                  <a:pt x="13767" y="7268"/>
                </a:cubicBezTo>
                <a:cubicBezTo>
                  <a:pt x="13993" y="7053"/>
                  <a:pt x="14124" y="7279"/>
                  <a:pt x="14163" y="7491"/>
                </a:cubicBezTo>
                <a:cubicBezTo>
                  <a:pt x="14163" y="7532"/>
                  <a:pt x="14163" y="7574"/>
                  <a:pt x="14163" y="7615"/>
                </a:cubicBezTo>
                <a:cubicBezTo>
                  <a:pt x="14163" y="7632"/>
                  <a:pt x="14163" y="7648"/>
                  <a:pt x="14163" y="7665"/>
                </a:cubicBezTo>
                <a:cubicBezTo>
                  <a:pt x="14172" y="7529"/>
                  <a:pt x="14174" y="7375"/>
                  <a:pt x="14213" y="7243"/>
                </a:cubicBezTo>
                <a:cubicBezTo>
                  <a:pt x="14255" y="7101"/>
                  <a:pt x="14316" y="7110"/>
                  <a:pt x="14436" y="7094"/>
                </a:cubicBezTo>
                <a:cubicBezTo>
                  <a:pt x="14599" y="7300"/>
                  <a:pt x="14651" y="7445"/>
                  <a:pt x="14610" y="7714"/>
                </a:cubicBezTo>
                <a:cubicBezTo>
                  <a:pt x="14589" y="7798"/>
                  <a:pt x="14573" y="7845"/>
                  <a:pt x="14610" y="77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3840" y="2473200"/>
            <a:ext cx="125280" cy="420840"/>
          </a:xfrm>
          <a:custGeom>
            <a:avLst/>
            <a:gdLst/>
            <a:ahLst/>
            <a:rect l="l" t="t" r="r" b="b"/>
            <a:pathLst>
              <a:path w="348" h="1167">
                <a:moveTo>
                  <a:pt x="13692" y="6871"/>
                </a:moveTo>
                <a:cubicBezTo>
                  <a:pt x="13615" y="7066"/>
                  <a:pt x="13432" y="7246"/>
                  <a:pt x="13370" y="7466"/>
                </a:cubicBezTo>
                <a:cubicBezTo>
                  <a:pt x="13311" y="7676"/>
                  <a:pt x="13319" y="7918"/>
                  <a:pt x="13519" y="8037"/>
                </a:cubicBezTo>
                <a:cubicBezTo>
                  <a:pt x="13527" y="8037"/>
                  <a:pt x="13535" y="8037"/>
                  <a:pt x="13543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4160" y="4884840"/>
            <a:ext cx="3268800" cy="1214280"/>
          </a:xfrm>
          <a:custGeom>
            <a:avLst/>
            <a:gdLst/>
            <a:ahLst/>
            <a:rect l="l" t="t" r="r" b="b"/>
            <a:pathLst>
              <a:path w="9080" h="3375">
                <a:moveTo>
                  <a:pt x="13990" y="15627"/>
                </a:moveTo>
                <a:cubicBezTo>
                  <a:pt x="14095" y="15627"/>
                  <a:pt x="14190" y="15615"/>
                  <a:pt x="14288" y="15602"/>
                </a:cubicBezTo>
                <a:cubicBezTo>
                  <a:pt x="14372" y="15591"/>
                  <a:pt x="14487" y="15591"/>
                  <a:pt x="14536" y="15577"/>
                </a:cubicBezTo>
                <a:cubicBezTo>
                  <a:pt x="14634" y="15550"/>
                  <a:pt x="14780" y="15577"/>
                  <a:pt x="14883" y="15577"/>
                </a:cubicBezTo>
                <a:cubicBezTo>
                  <a:pt x="14883" y="15659"/>
                  <a:pt x="14895" y="15725"/>
                  <a:pt x="14908" y="15801"/>
                </a:cubicBezTo>
                <a:cubicBezTo>
                  <a:pt x="14918" y="15858"/>
                  <a:pt x="14918" y="15893"/>
                  <a:pt x="14932" y="15949"/>
                </a:cubicBezTo>
                <a:cubicBezTo>
                  <a:pt x="14947" y="16010"/>
                  <a:pt x="14957" y="16057"/>
                  <a:pt x="14957" y="16123"/>
                </a:cubicBezTo>
                <a:cubicBezTo>
                  <a:pt x="14957" y="16164"/>
                  <a:pt x="14957" y="16206"/>
                  <a:pt x="14957" y="16247"/>
                </a:cubicBezTo>
              </a:path>
              <a:path w="9080" h="3375">
                <a:moveTo>
                  <a:pt x="14486" y="14560"/>
                </a:moveTo>
                <a:cubicBezTo>
                  <a:pt x="14638" y="14589"/>
                  <a:pt x="14801" y="14622"/>
                  <a:pt x="14957" y="14610"/>
                </a:cubicBezTo>
                <a:cubicBezTo>
                  <a:pt x="15150" y="14595"/>
                  <a:pt x="15373" y="14556"/>
                  <a:pt x="15553" y="14486"/>
                </a:cubicBezTo>
                <a:cubicBezTo>
                  <a:pt x="15728" y="14418"/>
                  <a:pt x="15906" y="14251"/>
                  <a:pt x="15949" y="14064"/>
                </a:cubicBezTo>
                <a:cubicBezTo>
                  <a:pt x="15981" y="13926"/>
                  <a:pt x="15935" y="13826"/>
                  <a:pt x="15825" y="13742"/>
                </a:cubicBezTo>
                <a:cubicBezTo>
                  <a:pt x="15662" y="13617"/>
                  <a:pt x="15385" y="13551"/>
                  <a:pt x="15180" y="13568"/>
                </a:cubicBezTo>
                <a:cubicBezTo>
                  <a:pt x="15014" y="13582"/>
                  <a:pt x="14847" y="13632"/>
                  <a:pt x="14684" y="13667"/>
                </a:cubicBezTo>
                <a:cubicBezTo>
                  <a:pt x="14522" y="13702"/>
                  <a:pt x="14434" y="13745"/>
                  <a:pt x="14387" y="13915"/>
                </a:cubicBezTo>
                <a:cubicBezTo>
                  <a:pt x="14337" y="14096"/>
                  <a:pt x="14313" y="14257"/>
                  <a:pt x="14436" y="14412"/>
                </a:cubicBezTo>
                <a:cubicBezTo>
                  <a:pt x="14558" y="14565"/>
                  <a:pt x="14840" y="14473"/>
                  <a:pt x="15007" y="14436"/>
                </a:cubicBezTo>
                <a:cubicBezTo>
                  <a:pt x="15032" y="14428"/>
                  <a:pt x="15056" y="14420"/>
                  <a:pt x="15081" y="14412"/>
                </a:cubicBezTo>
              </a:path>
              <a:path w="9080" h="3375">
                <a:moveTo>
                  <a:pt x="16495" y="15875"/>
                </a:moveTo>
                <a:cubicBezTo>
                  <a:pt x="16695" y="15864"/>
                  <a:pt x="16890" y="15812"/>
                  <a:pt x="17090" y="15801"/>
                </a:cubicBezTo>
                <a:cubicBezTo>
                  <a:pt x="17319" y="15788"/>
                  <a:pt x="17559" y="15758"/>
                  <a:pt x="17760" y="15627"/>
                </a:cubicBezTo>
                <a:cubicBezTo>
                  <a:pt x="17941" y="15509"/>
                  <a:pt x="18049" y="15325"/>
                  <a:pt x="18033" y="15106"/>
                </a:cubicBezTo>
                <a:cubicBezTo>
                  <a:pt x="18017" y="14889"/>
                  <a:pt x="17844" y="14829"/>
                  <a:pt x="17661" y="14784"/>
                </a:cubicBezTo>
                <a:cubicBezTo>
                  <a:pt x="17412" y="14723"/>
                  <a:pt x="17187" y="14723"/>
                  <a:pt x="16942" y="14784"/>
                </a:cubicBezTo>
                <a:cubicBezTo>
                  <a:pt x="16735" y="14835"/>
                  <a:pt x="16463" y="14886"/>
                  <a:pt x="16297" y="15032"/>
                </a:cubicBezTo>
                <a:cubicBezTo>
                  <a:pt x="16139" y="15171"/>
                  <a:pt x="16133" y="15463"/>
                  <a:pt x="16197" y="15652"/>
                </a:cubicBezTo>
                <a:cubicBezTo>
                  <a:pt x="16291" y="15927"/>
                  <a:pt x="16515" y="15871"/>
                  <a:pt x="16743" y="15825"/>
                </a:cubicBezTo>
                <a:cubicBezTo>
                  <a:pt x="16869" y="15800"/>
                  <a:pt x="16972" y="15750"/>
                  <a:pt x="17090" y="15726"/>
                </a:cubicBezTo>
              </a:path>
              <a:path w="9080" h="3375">
                <a:moveTo>
                  <a:pt x="10096" y="14064"/>
                </a:moveTo>
                <a:cubicBezTo>
                  <a:pt x="10035" y="14329"/>
                  <a:pt x="9846" y="14621"/>
                  <a:pt x="9674" y="14833"/>
                </a:cubicBezTo>
                <a:cubicBezTo>
                  <a:pt x="9554" y="14982"/>
                  <a:pt x="9415" y="15099"/>
                  <a:pt x="9302" y="15255"/>
                </a:cubicBezTo>
                <a:cubicBezTo>
                  <a:pt x="9627" y="15237"/>
                  <a:pt x="9945" y="15157"/>
                  <a:pt x="10269" y="15131"/>
                </a:cubicBezTo>
                <a:cubicBezTo>
                  <a:pt x="10429" y="15118"/>
                  <a:pt x="10586" y="15130"/>
                  <a:pt x="10740" y="15156"/>
                </a:cubicBezTo>
              </a:path>
              <a:path w="9080" h="3375">
                <a:moveTo>
                  <a:pt x="10170" y="14511"/>
                </a:moveTo>
                <a:cubicBezTo>
                  <a:pt x="10170" y="14503"/>
                  <a:pt x="10170" y="14494"/>
                  <a:pt x="10170" y="14486"/>
                </a:cubicBezTo>
                <a:cubicBezTo>
                  <a:pt x="10203" y="14568"/>
                  <a:pt x="10117" y="14740"/>
                  <a:pt x="10071" y="14833"/>
                </a:cubicBezTo>
                <a:cubicBezTo>
                  <a:pt x="10063" y="14841"/>
                  <a:pt x="10054" y="14850"/>
                  <a:pt x="10046" y="14858"/>
                </a:cubicBezTo>
                <a:cubicBezTo>
                  <a:pt x="10168" y="14809"/>
                  <a:pt x="10161" y="14782"/>
                  <a:pt x="10319" y="14808"/>
                </a:cubicBezTo>
                <a:cubicBezTo>
                  <a:pt x="10405" y="14822"/>
                  <a:pt x="10459" y="14833"/>
                  <a:pt x="10542" y="14833"/>
                </a:cubicBezTo>
              </a:path>
              <a:path w="9080" h="3375">
                <a:moveTo>
                  <a:pt x="10418" y="14238"/>
                </a:moveTo>
                <a:cubicBezTo>
                  <a:pt x="10418" y="14478"/>
                  <a:pt x="10418" y="14717"/>
                  <a:pt x="10418" y="14957"/>
                </a:cubicBezTo>
              </a:path>
              <a:path w="9080" h="3375">
                <a:moveTo>
                  <a:pt x="10641" y="14213"/>
                </a:moveTo>
                <a:cubicBezTo>
                  <a:pt x="10735" y="14186"/>
                  <a:pt x="10818" y="14133"/>
                  <a:pt x="10914" y="14114"/>
                </a:cubicBezTo>
                <a:cubicBezTo>
                  <a:pt x="10914" y="14211"/>
                  <a:pt x="10901" y="14416"/>
                  <a:pt x="10765" y="14461"/>
                </a:cubicBezTo>
                <a:cubicBezTo>
                  <a:pt x="10765" y="14453"/>
                  <a:pt x="10765" y="14444"/>
                  <a:pt x="10765" y="14436"/>
                </a:cubicBezTo>
                <a:cubicBezTo>
                  <a:pt x="10903" y="14348"/>
                  <a:pt x="11160" y="14340"/>
                  <a:pt x="11137" y="14610"/>
                </a:cubicBezTo>
                <a:cubicBezTo>
                  <a:pt x="11122" y="14783"/>
                  <a:pt x="10866" y="14850"/>
                  <a:pt x="10740" y="14808"/>
                </a:cubicBezTo>
                <a:cubicBezTo>
                  <a:pt x="10748" y="14808"/>
                  <a:pt x="10757" y="14808"/>
                  <a:pt x="10765" y="14808"/>
                </a:cubicBezTo>
              </a:path>
              <a:path w="9080" h="3375">
                <a:moveTo>
                  <a:pt x="9922" y="15974"/>
                </a:moveTo>
                <a:cubicBezTo>
                  <a:pt x="9759" y="16163"/>
                  <a:pt x="9604" y="16370"/>
                  <a:pt x="9426" y="16545"/>
                </a:cubicBezTo>
                <a:cubicBezTo>
                  <a:pt x="9285" y="16684"/>
                  <a:pt x="9100" y="16823"/>
                  <a:pt x="8954" y="16942"/>
                </a:cubicBezTo>
                <a:cubicBezTo>
                  <a:pt x="9132" y="16925"/>
                  <a:pt x="9293" y="16856"/>
                  <a:pt x="9475" y="16842"/>
                </a:cubicBezTo>
                <a:cubicBezTo>
                  <a:pt x="9991" y="16801"/>
                  <a:pt x="10520" y="16818"/>
                  <a:pt x="11038" y="16818"/>
                </a:cubicBezTo>
                <a:cubicBezTo>
                  <a:pt x="11171" y="16818"/>
                  <a:pt x="11516" y="16742"/>
                  <a:pt x="11410" y="16842"/>
                </a:cubicBezTo>
              </a:path>
              <a:path w="9080" h="3375">
                <a:moveTo>
                  <a:pt x="10120" y="16148"/>
                </a:moveTo>
                <a:cubicBezTo>
                  <a:pt x="10134" y="16146"/>
                  <a:pt x="10258" y="16123"/>
                  <a:pt x="10195" y="16123"/>
                </a:cubicBezTo>
                <a:cubicBezTo>
                  <a:pt x="10166" y="16123"/>
                  <a:pt x="9953" y="16123"/>
                  <a:pt x="10021" y="16123"/>
                </a:cubicBezTo>
                <a:cubicBezTo>
                  <a:pt x="10053" y="16123"/>
                  <a:pt x="10066" y="16106"/>
                  <a:pt x="10096" y="16098"/>
                </a:cubicBezTo>
              </a:path>
              <a:path w="9080" h="3375">
                <a:moveTo>
                  <a:pt x="10096" y="15999"/>
                </a:moveTo>
                <a:cubicBezTo>
                  <a:pt x="10067" y="16085"/>
                  <a:pt x="10040" y="16143"/>
                  <a:pt x="9996" y="16222"/>
                </a:cubicBezTo>
                <a:cubicBezTo>
                  <a:pt x="10110" y="16222"/>
                  <a:pt x="10206" y="16188"/>
                  <a:pt x="10319" y="16173"/>
                </a:cubicBezTo>
                <a:cubicBezTo>
                  <a:pt x="10395" y="16163"/>
                  <a:pt x="10415" y="16185"/>
                  <a:pt x="10393" y="16073"/>
                </a:cubicBezTo>
                <a:cubicBezTo>
                  <a:pt x="10385" y="16048"/>
                  <a:pt x="10376" y="16024"/>
                  <a:pt x="10368" y="15999"/>
                </a:cubicBezTo>
                <a:cubicBezTo>
                  <a:pt x="10368" y="15920"/>
                  <a:pt x="10344" y="16367"/>
                  <a:pt x="10344" y="16371"/>
                </a:cubicBezTo>
                <a:cubicBezTo>
                  <a:pt x="10340" y="16405"/>
                  <a:pt x="10319" y="16730"/>
                  <a:pt x="10319" y="16694"/>
                </a:cubicBezTo>
              </a:path>
              <a:path w="9080" h="3375">
                <a:moveTo>
                  <a:pt x="10740" y="16024"/>
                </a:moveTo>
                <a:cubicBezTo>
                  <a:pt x="10740" y="16152"/>
                  <a:pt x="10667" y="16195"/>
                  <a:pt x="10641" y="16321"/>
                </a:cubicBezTo>
                <a:cubicBezTo>
                  <a:pt x="10628" y="16381"/>
                  <a:pt x="10584" y="16560"/>
                  <a:pt x="10666" y="16594"/>
                </a:cubicBezTo>
                <a:cubicBezTo>
                  <a:pt x="10801" y="16650"/>
                  <a:pt x="10931" y="16621"/>
                  <a:pt x="11013" y="16495"/>
                </a:cubicBezTo>
                <a:cubicBezTo>
                  <a:pt x="11045" y="16447"/>
                  <a:pt x="11038" y="16399"/>
                  <a:pt x="11038" y="16346"/>
                </a:cubicBezTo>
                <a:cubicBezTo>
                  <a:pt x="10902" y="16328"/>
                  <a:pt x="10774" y="16336"/>
                  <a:pt x="10765" y="16520"/>
                </a:cubicBezTo>
                <a:cubicBezTo>
                  <a:pt x="10788" y="16543"/>
                  <a:pt x="10796" y="16554"/>
                  <a:pt x="10790" y="16520"/>
                </a:cubicBezTo>
              </a:path>
              <a:path w="9080" h="3375">
                <a:moveTo>
                  <a:pt x="9996" y="16024"/>
                </a:moveTo>
                <a:cubicBezTo>
                  <a:pt x="10025" y="16014"/>
                  <a:pt x="10056" y="15968"/>
                  <a:pt x="10071" y="15925"/>
                </a:cubicBezTo>
                <a:cubicBezTo>
                  <a:pt x="10071" y="15917"/>
                  <a:pt x="10071" y="15908"/>
                  <a:pt x="10071" y="15900"/>
                </a:cubicBezTo>
                <a:cubicBezTo>
                  <a:pt x="10056" y="15973"/>
                  <a:pt x="10031" y="16045"/>
                  <a:pt x="10021" y="16123"/>
                </a:cubicBezTo>
                <a:cubicBezTo>
                  <a:pt x="10135" y="16076"/>
                  <a:pt x="10219" y="16049"/>
                  <a:pt x="10344" y="16049"/>
                </a:cubicBezTo>
                <a:cubicBezTo>
                  <a:pt x="10368" y="16049"/>
                  <a:pt x="10377" y="16049"/>
                  <a:pt x="10393" y="16049"/>
                </a:cubicBezTo>
                <a:cubicBezTo>
                  <a:pt x="10393" y="15991"/>
                  <a:pt x="10417" y="15866"/>
                  <a:pt x="10368" y="15850"/>
                </a:cubicBezTo>
                <a:cubicBezTo>
                  <a:pt x="10368" y="15751"/>
                  <a:pt x="10368" y="15999"/>
                  <a:pt x="10368" y="16098"/>
                </a:cubicBezTo>
                <a:cubicBezTo>
                  <a:pt x="10368" y="16229"/>
                  <a:pt x="10397" y="16322"/>
                  <a:pt x="10418" y="16446"/>
                </a:cubicBezTo>
              </a:path>
              <a:path w="9080" h="3375">
                <a:moveTo>
                  <a:pt x="11311" y="13866"/>
                </a:moveTo>
                <a:cubicBezTo>
                  <a:pt x="11201" y="13783"/>
                  <a:pt x="11222" y="13988"/>
                  <a:pt x="11212" y="14064"/>
                </a:cubicBezTo>
                <a:cubicBezTo>
                  <a:pt x="11258" y="14059"/>
                  <a:pt x="11425" y="13934"/>
                  <a:pt x="11311" y="13915"/>
                </a:cubicBezTo>
                <a:cubicBezTo>
                  <a:pt x="11253" y="13915"/>
                  <a:pt x="11245" y="13915"/>
                  <a:pt x="11212" y="13915"/>
                </a:cubicBezTo>
              </a:path>
              <a:path w="9080" h="3375">
                <a:moveTo>
                  <a:pt x="11063" y="15801"/>
                </a:moveTo>
                <a:cubicBezTo>
                  <a:pt x="11046" y="15883"/>
                  <a:pt x="11038" y="15960"/>
                  <a:pt x="11038" y="16049"/>
                </a:cubicBezTo>
                <a:cubicBezTo>
                  <a:pt x="11115" y="16030"/>
                  <a:pt x="11297" y="15936"/>
                  <a:pt x="11137" y="15850"/>
                </a:cubicBezTo>
                <a:cubicBezTo>
                  <a:pt x="11060" y="15830"/>
                  <a:pt x="11042" y="15806"/>
                  <a:pt x="11013" y="15850"/>
                </a:cubicBezTo>
              </a:path>
              <a:path w="9080" h="3375">
                <a:moveTo>
                  <a:pt x="9947" y="15280"/>
                </a:moveTo>
                <a:cubicBezTo>
                  <a:pt x="9947" y="15181"/>
                  <a:pt x="9936" y="15429"/>
                  <a:pt x="9947" y="15528"/>
                </a:cubicBezTo>
                <a:cubicBezTo>
                  <a:pt x="9966" y="15605"/>
                  <a:pt x="9989" y="15622"/>
                  <a:pt x="9947" y="15652"/>
                </a:cubicBezTo>
              </a:path>
              <a:path w="9080" h="3375">
                <a:moveTo>
                  <a:pt x="9723" y="15577"/>
                </a:moveTo>
                <a:cubicBezTo>
                  <a:pt x="9832" y="15555"/>
                  <a:pt x="9929" y="15510"/>
                  <a:pt x="10046" y="15503"/>
                </a:cubicBezTo>
                <a:cubicBezTo>
                  <a:pt x="10054" y="15503"/>
                  <a:pt x="10063" y="15503"/>
                  <a:pt x="10071" y="15503"/>
                </a:cubicBezTo>
              </a:path>
              <a:path w="9080" h="3375">
                <a:moveTo>
                  <a:pt x="11683" y="15304"/>
                </a:moveTo>
                <a:cubicBezTo>
                  <a:pt x="11758" y="15269"/>
                  <a:pt x="11908" y="15157"/>
                  <a:pt x="11956" y="15230"/>
                </a:cubicBezTo>
              </a:path>
              <a:path w="9080" h="3375">
                <a:moveTo>
                  <a:pt x="11733" y="15503"/>
                </a:moveTo>
                <a:cubicBezTo>
                  <a:pt x="11811" y="15472"/>
                  <a:pt x="11875" y="15442"/>
                  <a:pt x="11956" y="15429"/>
                </a:cubicBezTo>
              </a:path>
              <a:path w="9080" h="3375">
                <a:moveTo>
                  <a:pt x="12626" y="14957"/>
                </a:moveTo>
                <a:cubicBezTo>
                  <a:pt x="12571" y="14831"/>
                  <a:pt x="12374" y="14916"/>
                  <a:pt x="12278" y="15007"/>
                </a:cubicBezTo>
                <a:cubicBezTo>
                  <a:pt x="12262" y="15040"/>
                  <a:pt x="12245" y="15073"/>
                  <a:pt x="12229" y="15106"/>
                </a:cubicBezTo>
                <a:cubicBezTo>
                  <a:pt x="12340" y="15187"/>
                  <a:pt x="12682" y="15339"/>
                  <a:pt x="12551" y="15528"/>
                </a:cubicBezTo>
                <a:cubicBezTo>
                  <a:pt x="12518" y="15544"/>
                  <a:pt x="12485" y="15561"/>
                  <a:pt x="12452" y="15577"/>
                </a:cubicBezTo>
                <a:cubicBezTo>
                  <a:pt x="12369" y="15430"/>
                  <a:pt x="12479" y="15208"/>
                  <a:pt x="12551" y="15032"/>
                </a:cubicBezTo>
                <a:cubicBezTo>
                  <a:pt x="12573" y="14988"/>
                  <a:pt x="12586" y="14967"/>
                  <a:pt x="12551" y="15007"/>
                </a:cubicBezTo>
              </a:path>
              <a:path w="9080" h="3375">
                <a:moveTo>
                  <a:pt x="12898" y="14957"/>
                </a:moveTo>
                <a:cubicBezTo>
                  <a:pt x="12923" y="14847"/>
                  <a:pt x="12910" y="14861"/>
                  <a:pt x="12824" y="14784"/>
                </a:cubicBezTo>
                <a:cubicBezTo>
                  <a:pt x="12662" y="14891"/>
                  <a:pt x="12624" y="14980"/>
                  <a:pt x="12725" y="15131"/>
                </a:cubicBezTo>
                <a:cubicBezTo>
                  <a:pt x="12837" y="15036"/>
                  <a:pt x="12882" y="14964"/>
                  <a:pt x="12948" y="14833"/>
                </a:cubicBezTo>
                <a:cubicBezTo>
                  <a:pt x="12959" y="14839"/>
                  <a:pt x="12994" y="15116"/>
                  <a:pt x="12998" y="15180"/>
                </a:cubicBezTo>
                <a:cubicBezTo>
                  <a:pt x="12998" y="15313"/>
                  <a:pt x="12998" y="15329"/>
                  <a:pt x="12998" y="15404"/>
                </a:cubicBezTo>
              </a:path>
              <a:path w="9080" h="3375">
                <a:moveTo>
                  <a:pt x="13047" y="14461"/>
                </a:moveTo>
                <a:cubicBezTo>
                  <a:pt x="13030" y="14538"/>
                  <a:pt x="12998" y="14577"/>
                  <a:pt x="13047" y="14610"/>
                </a:cubicBezTo>
                <a:cubicBezTo>
                  <a:pt x="13123" y="14458"/>
                  <a:pt x="13169" y="14461"/>
                  <a:pt x="12973" y="14461"/>
                </a:cubicBezTo>
              </a:path>
              <a:path w="9080" h="3375">
                <a:moveTo>
                  <a:pt x="9475" y="14114"/>
                </a:moveTo>
                <a:cubicBezTo>
                  <a:pt x="9714" y="14233"/>
                  <a:pt x="9953" y="14370"/>
                  <a:pt x="10170" y="14536"/>
                </a:cubicBezTo>
                <a:cubicBezTo>
                  <a:pt x="10676" y="14921"/>
                  <a:pt x="11161" y="15323"/>
                  <a:pt x="11708" y="15652"/>
                </a:cubicBezTo>
                <a:cubicBezTo>
                  <a:pt x="12109" y="15893"/>
                  <a:pt x="12559" y="16043"/>
                  <a:pt x="12948" y="16297"/>
                </a:cubicBezTo>
                <a:cubicBezTo>
                  <a:pt x="13056" y="16368"/>
                  <a:pt x="13064" y="16416"/>
                  <a:pt x="13072" y="16371"/>
                </a:cubicBezTo>
                <a:cubicBezTo>
                  <a:pt x="13064" y="16346"/>
                  <a:pt x="13055" y="16322"/>
                  <a:pt x="13047" y="16297"/>
                </a:cubicBezTo>
              </a:path>
              <a:path w="9080" h="3375">
                <a:moveTo>
                  <a:pt x="12849" y="14139"/>
                </a:moveTo>
                <a:cubicBezTo>
                  <a:pt x="12607" y="14351"/>
                  <a:pt x="12397" y="14605"/>
                  <a:pt x="12179" y="14858"/>
                </a:cubicBezTo>
                <a:cubicBezTo>
                  <a:pt x="11643" y="15481"/>
                  <a:pt x="11038" y="16044"/>
                  <a:pt x="10567" y="16718"/>
                </a:cubicBezTo>
                <a:cubicBezTo>
                  <a:pt x="10467" y="16862"/>
                  <a:pt x="10529" y="16863"/>
                  <a:pt x="10517" y="168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09960" y="3303720"/>
            <a:ext cx="919080" cy="1179360"/>
          </a:xfrm>
          <a:custGeom>
            <a:avLst/>
            <a:gdLst/>
            <a:ahLst/>
            <a:rect l="l" t="t" r="r" b="b"/>
            <a:pathLst>
              <a:path w="2556" h="3275">
                <a:moveTo>
                  <a:pt x="8930" y="9277"/>
                </a:moveTo>
                <a:cubicBezTo>
                  <a:pt x="8814" y="9346"/>
                  <a:pt x="8855" y="9496"/>
                  <a:pt x="8855" y="9624"/>
                </a:cubicBezTo>
                <a:cubicBezTo>
                  <a:pt x="8855" y="9813"/>
                  <a:pt x="8866" y="9867"/>
                  <a:pt x="8954" y="10021"/>
                </a:cubicBezTo>
                <a:cubicBezTo>
                  <a:pt x="9197" y="9934"/>
                  <a:pt x="9340" y="9885"/>
                  <a:pt x="9451" y="9649"/>
                </a:cubicBezTo>
                <a:cubicBezTo>
                  <a:pt x="9309" y="9538"/>
                  <a:pt x="9179" y="9613"/>
                  <a:pt x="9079" y="9773"/>
                </a:cubicBezTo>
                <a:cubicBezTo>
                  <a:pt x="8964" y="9956"/>
                  <a:pt x="9047" y="9968"/>
                  <a:pt x="9178" y="9996"/>
                </a:cubicBezTo>
              </a:path>
              <a:path w="2556" h="3275">
                <a:moveTo>
                  <a:pt x="9699" y="9203"/>
                </a:moveTo>
                <a:cubicBezTo>
                  <a:pt x="9519" y="9306"/>
                  <a:pt x="9469" y="9482"/>
                  <a:pt x="9500" y="9699"/>
                </a:cubicBezTo>
                <a:cubicBezTo>
                  <a:pt x="9517" y="9740"/>
                  <a:pt x="9533" y="9782"/>
                  <a:pt x="9550" y="9823"/>
                </a:cubicBezTo>
                <a:cubicBezTo>
                  <a:pt x="9819" y="9822"/>
                  <a:pt x="10058" y="9699"/>
                  <a:pt x="9996" y="9351"/>
                </a:cubicBezTo>
                <a:cubicBezTo>
                  <a:pt x="9955" y="9122"/>
                  <a:pt x="9743" y="9176"/>
                  <a:pt x="9599" y="9227"/>
                </a:cubicBezTo>
              </a:path>
              <a:path w="2556" h="3275">
                <a:moveTo>
                  <a:pt x="9004" y="10468"/>
                </a:moveTo>
                <a:cubicBezTo>
                  <a:pt x="9063" y="10433"/>
                  <a:pt x="9369" y="10198"/>
                  <a:pt x="9426" y="10368"/>
                </a:cubicBezTo>
                <a:cubicBezTo>
                  <a:pt x="9473" y="10510"/>
                  <a:pt x="9312" y="10553"/>
                  <a:pt x="9227" y="10592"/>
                </a:cubicBezTo>
                <a:cubicBezTo>
                  <a:pt x="9302" y="10480"/>
                  <a:pt x="9529" y="10425"/>
                  <a:pt x="9550" y="10641"/>
                </a:cubicBezTo>
                <a:cubicBezTo>
                  <a:pt x="9567" y="10819"/>
                  <a:pt x="9148" y="11159"/>
                  <a:pt x="9029" y="10964"/>
                </a:cubicBezTo>
                <a:cubicBezTo>
                  <a:pt x="9046" y="10931"/>
                  <a:pt x="9062" y="10897"/>
                  <a:pt x="9079" y="10864"/>
                </a:cubicBezTo>
              </a:path>
              <a:path w="2556" h="3275">
                <a:moveTo>
                  <a:pt x="9674" y="10393"/>
                </a:moveTo>
                <a:cubicBezTo>
                  <a:pt x="9621" y="10611"/>
                  <a:pt x="9623" y="10655"/>
                  <a:pt x="9699" y="10864"/>
                </a:cubicBezTo>
                <a:cubicBezTo>
                  <a:pt x="9890" y="10856"/>
                  <a:pt x="10237" y="10740"/>
                  <a:pt x="10071" y="10443"/>
                </a:cubicBezTo>
                <a:cubicBezTo>
                  <a:pt x="9985" y="10289"/>
                  <a:pt x="9815" y="10393"/>
                  <a:pt x="9723" y="10443"/>
                </a:cubicBezTo>
              </a:path>
              <a:path w="2556" h="3275">
                <a:moveTo>
                  <a:pt x="8409" y="11410"/>
                </a:moveTo>
                <a:cubicBezTo>
                  <a:pt x="9117" y="11245"/>
                  <a:pt x="9818" y="11086"/>
                  <a:pt x="10542" y="11013"/>
                </a:cubicBezTo>
                <a:cubicBezTo>
                  <a:pt x="10656" y="11001"/>
                  <a:pt x="10500" y="11046"/>
                  <a:pt x="10468" y="11063"/>
                </a:cubicBezTo>
              </a:path>
              <a:path w="2556" h="3275">
                <a:moveTo>
                  <a:pt x="8632" y="10542"/>
                </a:moveTo>
                <a:cubicBezTo>
                  <a:pt x="8640" y="10693"/>
                  <a:pt x="8678" y="10853"/>
                  <a:pt x="8632" y="10988"/>
                </a:cubicBezTo>
              </a:path>
              <a:path w="2556" h="3275">
                <a:moveTo>
                  <a:pt x="8359" y="10914"/>
                </a:moveTo>
                <a:cubicBezTo>
                  <a:pt x="8577" y="10849"/>
                  <a:pt x="8785" y="10795"/>
                  <a:pt x="9004" y="10740"/>
                </a:cubicBezTo>
              </a:path>
              <a:path w="2556" h="3275">
                <a:moveTo>
                  <a:pt x="10269" y="11485"/>
                </a:moveTo>
                <a:cubicBezTo>
                  <a:pt x="10084" y="11577"/>
                  <a:pt x="9955" y="11782"/>
                  <a:pt x="9971" y="12005"/>
                </a:cubicBezTo>
                <a:cubicBezTo>
                  <a:pt x="9994" y="12336"/>
                  <a:pt x="10443" y="12256"/>
                  <a:pt x="10517" y="12005"/>
                </a:cubicBezTo>
                <a:cubicBezTo>
                  <a:pt x="10581" y="11787"/>
                  <a:pt x="10406" y="11713"/>
                  <a:pt x="10269" y="11633"/>
                </a:cubicBezTo>
              </a:path>
              <a:path w="2556" h="3275">
                <a:moveTo>
                  <a:pt x="9401" y="11807"/>
                </a:moveTo>
                <a:cubicBezTo>
                  <a:pt x="9428" y="11622"/>
                  <a:pt x="9419" y="11595"/>
                  <a:pt x="9302" y="11460"/>
                </a:cubicBezTo>
                <a:cubicBezTo>
                  <a:pt x="9194" y="11520"/>
                  <a:pt x="8762" y="11942"/>
                  <a:pt x="9103" y="12055"/>
                </a:cubicBezTo>
                <a:cubicBezTo>
                  <a:pt x="9341" y="12134"/>
                  <a:pt x="9406" y="11780"/>
                  <a:pt x="9451" y="11658"/>
                </a:cubicBezTo>
                <a:cubicBezTo>
                  <a:pt x="9451" y="11625"/>
                  <a:pt x="9451" y="11592"/>
                  <a:pt x="9451" y="11559"/>
                </a:cubicBezTo>
                <a:cubicBezTo>
                  <a:pt x="9538" y="11781"/>
                  <a:pt x="9537" y="12041"/>
                  <a:pt x="9550" y="12278"/>
                </a:cubicBezTo>
                <a:cubicBezTo>
                  <a:pt x="9554" y="12356"/>
                  <a:pt x="9540" y="12479"/>
                  <a:pt x="9525" y="12402"/>
                </a:cubicBezTo>
              </a:path>
              <a:path w="2556" h="3275">
                <a:moveTo>
                  <a:pt x="10740" y="11063"/>
                </a:moveTo>
                <a:cubicBezTo>
                  <a:pt x="10675" y="11241"/>
                  <a:pt x="10671" y="11270"/>
                  <a:pt x="10740" y="11435"/>
                </a:cubicBezTo>
                <a:cubicBezTo>
                  <a:pt x="10852" y="11383"/>
                  <a:pt x="11080" y="11161"/>
                  <a:pt x="10815" y="11088"/>
                </a:cubicBezTo>
                <a:cubicBezTo>
                  <a:pt x="10774" y="11096"/>
                  <a:pt x="10732" y="11104"/>
                  <a:pt x="10691" y="111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tudents will identify Complementary, Supplementary, Vertical, Adjacent and Corresponding Angles</a:t>
            </a: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Supplementary Ang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lementary Angle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gles whose sum is 180 degre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62120" y="3200400"/>
            <a:ext cx="4066920" cy="1361880"/>
            <a:chOff x="762120" y="3200400"/>
            <a:chExt cx="4066920" cy="1361880"/>
          </a:xfrm>
        </p:grpSpPr>
        <p:grpSp>
          <p:nvGrpSpPr>
            <p:cNvPr id="84" name=""/>
            <p:cNvGrpSpPr/>
            <p:nvPr/>
          </p:nvGrpSpPr>
          <p:grpSpPr>
            <a:xfrm>
              <a:off x="762120" y="3200400"/>
              <a:ext cx="4066920" cy="1361880"/>
              <a:chOff x="762120" y="3200400"/>
              <a:chExt cx="4066920" cy="1361880"/>
            </a:xfrm>
          </p:grpSpPr>
          <p:pic>
            <p:nvPicPr>
              <p:cNvPr id="8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4267080"/>
                <a:ext cx="406692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 flipV="1">
                <a:off x="2743200" y="3200400"/>
                <a:ext cx="990000" cy="121896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1905120" y="38862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76720" y="3886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30280" y="2928960"/>
            <a:ext cx="1901880" cy="88920"/>
          </a:xfrm>
          <a:custGeom>
            <a:avLst/>
            <a:gdLst/>
            <a:ahLst/>
            <a:rect l="l" t="t" r="r" b="b"/>
            <a:pathLst>
              <a:path w="5284" h="249">
                <a:moveTo>
                  <a:pt x="6499" y="8384"/>
                </a:moveTo>
                <a:cubicBezTo>
                  <a:pt x="6544" y="8360"/>
                  <a:pt x="6524" y="8348"/>
                  <a:pt x="6573" y="8334"/>
                </a:cubicBezTo>
                <a:cubicBezTo>
                  <a:pt x="6703" y="8297"/>
                  <a:pt x="6815" y="8301"/>
                  <a:pt x="6945" y="8285"/>
                </a:cubicBezTo>
                <a:cubicBezTo>
                  <a:pt x="7039" y="8274"/>
                  <a:pt x="7120" y="8262"/>
                  <a:pt x="7218" y="8260"/>
                </a:cubicBezTo>
                <a:cubicBezTo>
                  <a:pt x="7361" y="8258"/>
                  <a:pt x="7502" y="8245"/>
                  <a:pt x="7640" y="8235"/>
                </a:cubicBezTo>
                <a:cubicBezTo>
                  <a:pt x="7788" y="8224"/>
                  <a:pt x="7940" y="8221"/>
                  <a:pt x="8086" y="8210"/>
                </a:cubicBezTo>
                <a:cubicBezTo>
                  <a:pt x="8398" y="8188"/>
                  <a:pt x="8717" y="8204"/>
                  <a:pt x="9029" y="8186"/>
                </a:cubicBezTo>
                <a:cubicBezTo>
                  <a:pt x="9237" y="8174"/>
                  <a:pt x="9440" y="8161"/>
                  <a:pt x="9649" y="8161"/>
                </a:cubicBezTo>
                <a:cubicBezTo>
                  <a:pt x="9988" y="8161"/>
                  <a:pt x="10327" y="8123"/>
                  <a:pt x="10666" y="8136"/>
                </a:cubicBezTo>
                <a:cubicBezTo>
                  <a:pt x="10974" y="8148"/>
                  <a:pt x="11274" y="8186"/>
                  <a:pt x="11584" y="8186"/>
                </a:cubicBezTo>
                <a:cubicBezTo>
                  <a:pt x="11683" y="8186"/>
                  <a:pt x="11699" y="8186"/>
                  <a:pt x="11757" y="81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62680" y="4214880"/>
            <a:ext cx="1384200" cy="884160"/>
          </a:xfrm>
          <a:custGeom>
            <a:avLst/>
            <a:gdLst/>
            <a:ahLst/>
            <a:rect l="l" t="t" r="r" b="b"/>
            <a:pathLst>
              <a:path w="3846" h="2456">
                <a:moveTo>
                  <a:pt x="14089" y="14089"/>
                </a:moveTo>
                <a:cubicBezTo>
                  <a:pt x="14155" y="14089"/>
                  <a:pt x="14172" y="14098"/>
                  <a:pt x="14238" y="14089"/>
                </a:cubicBezTo>
                <a:cubicBezTo>
                  <a:pt x="14493" y="14056"/>
                  <a:pt x="14748" y="14064"/>
                  <a:pt x="15007" y="14064"/>
                </a:cubicBezTo>
                <a:cubicBezTo>
                  <a:pt x="15307" y="14064"/>
                  <a:pt x="15602" y="14077"/>
                  <a:pt x="15900" y="14089"/>
                </a:cubicBezTo>
                <a:cubicBezTo>
                  <a:pt x="16346" y="14107"/>
                  <a:pt x="16793" y="14088"/>
                  <a:pt x="17239" y="14114"/>
                </a:cubicBezTo>
                <a:cubicBezTo>
                  <a:pt x="17463" y="14127"/>
                  <a:pt x="17685" y="14155"/>
                  <a:pt x="17909" y="14163"/>
                </a:cubicBezTo>
                <a:cubicBezTo>
                  <a:pt x="17873" y="14145"/>
                  <a:pt x="17858" y="14156"/>
                  <a:pt x="17835" y="14139"/>
                </a:cubicBezTo>
                <a:cubicBezTo>
                  <a:pt x="17814" y="14123"/>
                  <a:pt x="17788" y="14099"/>
                  <a:pt x="17760" y="14064"/>
                </a:cubicBezTo>
                <a:cubicBezTo>
                  <a:pt x="17695" y="13982"/>
                  <a:pt x="17632" y="13894"/>
                  <a:pt x="17562" y="13816"/>
                </a:cubicBezTo>
                <a:cubicBezTo>
                  <a:pt x="17420" y="13657"/>
                  <a:pt x="17314" y="13510"/>
                  <a:pt x="17214" y="13320"/>
                </a:cubicBezTo>
                <a:cubicBezTo>
                  <a:pt x="17103" y="13110"/>
                  <a:pt x="17013" y="12940"/>
                  <a:pt x="16867" y="12750"/>
                </a:cubicBezTo>
                <a:cubicBezTo>
                  <a:pt x="16656" y="12474"/>
                  <a:pt x="16409" y="12230"/>
                  <a:pt x="16197" y="11956"/>
                </a:cubicBezTo>
                <a:cubicBezTo>
                  <a:pt x="16175" y="11927"/>
                  <a:pt x="16052" y="11704"/>
                  <a:pt x="15999" y="11708"/>
                </a:cubicBezTo>
                <a:cubicBezTo>
                  <a:pt x="15999" y="11754"/>
                  <a:pt x="15987" y="11781"/>
                  <a:pt x="15949" y="118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68320" y="3660840"/>
            <a:ext cx="857520" cy="662040"/>
          </a:xfrm>
          <a:custGeom>
            <a:avLst/>
            <a:gdLst/>
            <a:ahLst/>
            <a:rect l="l" t="t" r="r" b="b"/>
            <a:pathLst>
              <a:path w="2383" h="1836">
                <a:moveTo>
                  <a:pt x="5283" y="11857"/>
                </a:moveTo>
                <a:cubicBezTo>
                  <a:pt x="5570" y="11873"/>
                  <a:pt x="5863" y="11904"/>
                  <a:pt x="6152" y="11881"/>
                </a:cubicBezTo>
                <a:cubicBezTo>
                  <a:pt x="6460" y="11856"/>
                  <a:pt x="6987" y="11846"/>
                  <a:pt x="7169" y="11534"/>
                </a:cubicBezTo>
                <a:cubicBezTo>
                  <a:pt x="7371" y="11188"/>
                  <a:pt x="7344" y="10695"/>
                  <a:pt x="7045" y="10418"/>
                </a:cubicBezTo>
                <a:cubicBezTo>
                  <a:pt x="6672" y="10073"/>
                  <a:pt x="6146" y="10136"/>
                  <a:pt x="5705" y="10269"/>
                </a:cubicBezTo>
                <a:cubicBezTo>
                  <a:pt x="5092" y="10453"/>
                  <a:pt x="4702" y="11106"/>
                  <a:pt x="4986" y="11733"/>
                </a:cubicBezTo>
                <a:cubicBezTo>
                  <a:pt x="5148" y="12091"/>
                  <a:pt x="5485" y="11972"/>
                  <a:pt x="5779" y="119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14800" y="3027240"/>
            <a:ext cx="1812960" cy="1285920"/>
          </a:xfrm>
          <a:custGeom>
            <a:avLst/>
            <a:gdLst/>
            <a:ahLst/>
            <a:rect l="l" t="t" r="r" b="b"/>
            <a:pathLst>
              <a:path w="5036" h="3573">
                <a:moveTo>
                  <a:pt x="9103" y="11757"/>
                </a:moveTo>
                <a:cubicBezTo>
                  <a:pt x="9469" y="11863"/>
                  <a:pt x="9810" y="11969"/>
                  <a:pt x="10195" y="11857"/>
                </a:cubicBezTo>
                <a:cubicBezTo>
                  <a:pt x="10637" y="11728"/>
                  <a:pt x="11017" y="11423"/>
                  <a:pt x="10939" y="10914"/>
                </a:cubicBezTo>
                <a:cubicBezTo>
                  <a:pt x="10852" y="10343"/>
                  <a:pt x="10314" y="10270"/>
                  <a:pt x="9847" y="10319"/>
                </a:cubicBezTo>
                <a:cubicBezTo>
                  <a:pt x="9336" y="10373"/>
                  <a:pt x="8979" y="10723"/>
                  <a:pt x="8930" y="11237"/>
                </a:cubicBezTo>
                <a:cubicBezTo>
                  <a:pt x="8874" y="11833"/>
                  <a:pt x="9244" y="12076"/>
                  <a:pt x="9798" y="11956"/>
                </a:cubicBezTo>
                <a:cubicBezTo>
                  <a:pt x="9897" y="11915"/>
                  <a:pt x="9997" y="11873"/>
                  <a:pt x="10096" y="11832"/>
                </a:cubicBezTo>
              </a:path>
              <a:path w="5036" h="3573">
                <a:moveTo>
                  <a:pt x="12254" y="8508"/>
                </a:moveTo>
                <a:cubicBezTo>
                  <a:pt x="12226" y="8764"/>
                  <a:pt x="12229" y="9018"/>
                  <a:pt x="12229" y="9277"/>
                </a:cubicBezTo>
              </a:path>
              <a:path w="5036" h="3573">
                <a:moveTo>
                  <a:pt x="12601" y="8483"/>
                </a:moveTo>
                <a:cubicBezTo>
                  <a:pt x="12853" y="8506"/>
                  <a:pt x="13117" y="8574"/>
                  <a:pt x="13047" y="8905"/>
                </a:cubicBezTo>
                <a:cubicBezTo>
                  <a:pt x="12982" y="9214"/>
                  <a:pt x="12640" y="9178"/>
                  <a:pt x="12452" y="9079"/>
                </a:cubicBezTo>
                <a:cubicBezTo>
                  <a:pt x="12642" y="8907"/>
                  <a:pt x="12820" y="8775"/>
                  <a:pt x="13022" y="9029"/>
                </a:cubicBezTo>
                <a:cubicBezTo>
                  <a:pt x="13063" y="9110"/>
                  <a:pt x="13059" y="9143"/>
                  <a:pt x="13122" y="9128"/>
                </a:cubicBezTo>
              </a:path>
              <a:path w="5036" h="3573">
                <a:moveTo>
                  <a:pt x="13370" y="8409"/>
                </a:moveTo>
                <a:cubicBezTo>
                  <a:pt x="13262" y="8657"/>
                  <a:pt x="13245" y="8699"/>
                  <a:pt x="13320" y="8954"/>
                </a:cubicBezTo>
                <a:cubicBezTo>
                  <a:pt x="13523" y="8940"/>
                  <a:pt x="13957" y="8835"/>
                  <a:pt x="13742" y="8508"/>
                </a:cubicBezTo>
                <a:cubicBezTo>
                  <a:pt x="13624" y="8437"/>
                  <a:pt x="13589" y="8413"/>
                  <a:pt x="13494" y="8434"/>
                </a:cubicBezTo>
              </a:path>
              <a:path w="5036" h="3573">
                <a:moveTo>
                  <a:pt x="11509" y="9525"/>
                </a:moveTo>
                <a:cubicBezTo>
                  <a:pt x="11540" y="9719"/>
                  <a:pt x="11581" y="9907"/>
                  <a:pt x="11534" y="10096"/>
                </a:cubicBezTo>
              </a:path>
              <a:path w="5036" h="3573">
                <a:moveTo>
                  <a:pt x="11237" y="9872"/>
                </a:moveTo>
                <a:cubicBezTo>
                  <a:pt x="11568" y="9812"/>
                  <a:pt x="11898" y="9741"/>
                  <a:pt x="12229" y="9674"/>
                </a:cubicBezTo>
              </a:path>
              <a:path w="5036" h="3573">
                <a:moveTo>
                  <a:pt x="12626" y="9451"/>
                </a:moveTo>
                <a:cubicBezTo>
                  <a:pt x="12537" y="9479"/>
                  <a:pt x="12547" y="9697"/>
                  <a:pt x="12551" y="9773"/>
                </a:cubicBezTo>
                <a:cubicBezTo>
                  <a:pt x="12575" y="9918"/>
                  <a:pt x="12581" y="9965"/>
                  <a:pt x="12675" y="10021"/>
                </a:cubicBezTo>
                <a:cubicBezTo>
                  <a:pt x="12985" y="9969"/>
                  <a:pt x="13022" y="9888"/>
                  <a:pt x="13022" y="9575"/>
                </a:cubicBezTo>
                <a:cubicBezTo>
                  <a:pt x="12844" y="9619"/>
                  <a:pt x="12592" y="9798"/>
                  <a:pt x="12750" y="10046"/>
                </a:cubicBezTo>
                <a:cubicBezTo>
                  <a:pt x="12783" y="10054"/>
                  <a:pt x="12816" y="10063"/>
                  <a:pt x="12849" y="10071"/>
                </a:cubicBezTo>
              </a:path>
              <a:path w="5036" h="3573">
                <a:moveTo>
                  <a:pt x="13295" y="9401"/>
                </a:moveTo>
                <a:cubicBezTo>
                  <a:pt x="13224" y="9655"/>
                  <a:pt x="13211" y="9702"/>
                  <a:pt x="13295" y="9947"/>
                </a:cubicBezTo>
                <a:cubicBezTo>
                  <a:pt x="13536" y="9927"/>
                  <a:pt x="13836" y="9775"/>
                  <a:pt x="13643" y="9451"/>
                </a:cubicBezTo>
                <a:cubicBezTo>
                  <a:pt x="13522" y="9378"/>
                  <a:pt x="13484" y="9352"/>
                  <a:pt x="13395" y="9426"/>
                </a:cubicBezTo>
              </a:path>
              <a:path w="5036" h="3573">
                <a:moveTo>
                  <a:pt x="11435" y="10418"/>
                </a:moveTo>
                <a:cubicBezTo>
                  <a:pt x="12113" y="10286"/>
                  <a:pt x="12799" y="10216"/>
                  <a:pt x="13494" y="10220"/>
                </a:cubicBezTo>
                <a:cubicBezTo>
                  <a:pt x="13632" y="10221"/>
                  <a:pt x="13963" y="10198"/>
                  <a:pt x="13915" y="10269"/>
                </a:cubicBezTo>
              </a:path>
              <a:path w="5036" h="3573">
                <a:moveTo>
                  <a:pt x="11981" y="10492"/>
                </a:moveTo>
                <a:cubicBezTo>
                  <a:pt x="11971" y="10748"/>
                  <a:pt x="11851" y="11163"/>
                  <a:pt x="11931" y="11410"/>
                </a:cubicBezTo>
                <a:cubicBezTo>
                  <a:pt x="11948" y="11402"/>
                  <a:pt x="11964" y="11393"/>
                  <a:pt x="11981" y="11385"/>
                </a:cubicBezTo>
              </a:path>
              <a:path w="5036" h="3573">
                <a:moveTo>
                  <a:pt x="12601" y="10542"/>
                </a:moveTo>
                <a:cubicBezTo>
                  <a:pt x="12241" y="10822"/>
                  <a:pt x="12321" y="10792"/>
                  <a:pt x="12650" y="11013"/>
                </a:cubicBezTo>
                <a:cubicBezTo>
                  <a:pt x="12700" y="11054"/>
                  <a:pt x="12749" y="11096"/>
                  <a:pt x="12799" y="11137"/>
                </a:cubicBezTo>
                <a:cubicBezTo>
                  <a:pt x="12681" y="11306"/>
                  <a:pt x="12691" y="11296"/>
                  <a:pt x="12477" y="11286"/>
                </a:cubicBezTo>
                <a:cubicBezTo>
                  <a:pt x="12515" y="11157"/>
                  <a:pt x="12837" y="10670"/>
                  <a:pt x="12774" y="10592"/>
                </a:cubicBezTo>
                <a:cubicBezTo>
                  <a:pt x="12749" y="10592"/>
                  <a:pt x="12725" y="10592"/>
                  <a:pt x="12700" y="10592"/>
                </a:cubicBezTo>
              </a:path>
              <a:path w="5036" h="3573">
                <a:moveTo>
                  <a:pt x="13246" y="10492"/>
                </a:moveTo>
                <a:cubicBezTo>
                  <a:pt x="13076" y="10756"/>
                  <a:pt x="12972" y="10917"/>
                  <a:pt x="13122" y="11187"/>
                </a:cubicBezTo>
                <a:cubicBezTo>
                  <a:pt x="13380" y="11113"/>
                  <a:pt x="13691" y="10944"/>
                  <a:pt x="13519" y="10592"/>
                </a:cubicBezTo>
                <a:cubicBezTo>
                  <a:pt x="13445" y="10441"/>
                  <a:pt x="13309" y="10552"/>
                  <a:pt x="13221" y="10592"/>
                </a:cubicBezTo>
              </a:path>
              <a:path w="5036" h="3573">
                <a:moveTo>
                  <a:pt x="13767" y="10368"/>
                </a:moveTo>
                <a:cubicBezTo>
                  <a:pt x="13742" y="10426"/>
                  <a:pt x="13711" y="10480"/>
                  <a:pt x="13692" y="10542"/>
                </a:cubicBezTo>
                <a:cubicBezTo>
                  <a:pt x="13799" y="10523"/>
                  <a:pt x="14048" y="10462"/>
                  <a:pt x="13866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30200" y="4938840"/>
            <a:ext cx="2670480" cy="982440"/>
          </a:xfrm>
          <a:custGeom>
            <a:avLst/>
            <a:gdLst/>
            <a:ahLst/>
            <a:rect l="l" t="t" r="r" b="b"/>
            <a:pathLst>
              <a:path w="7417" h="2730">
                <a:moveTo>
                  <a:pt x="4787" y="14387"/>
                </a:moveTo>
                <a:cubicBezTo>
                  <a:pt x="4806" y="14405"/>
                  <a:pt x="5147" y="14759"/>
                  <a:pt x="5184" y="14808"/>
                </a:cubicBezTo>
                <a:cubicBezTo>
                  <a:pt x="5425" y="15124"/>
                  <a:pt x="5641" y="15460"/>
                  <a:pt x="5879" y="15776"/>
                </a:cubicBezTo>
                <a:cubicBezTo>
                  <a:pt x="5887" y="15784"/>
                  <a:pt x="5896" y="15793"/>
                  <a:pt x="5904" y="15801"/>
                </a:cubicBezTo>
                <a:cubicBezTo>
                  <a:pt x="5625" y="15864"/>
                  <a:pt x="5331" y="15932"/>
                  <a:pt x="5060" y="16024"/>
                </a:cubicBezTo>
                <a:cubicBezTo>
                  <a:pt x="4619" y="16174"/>
                  <a:pt x="4149" y="16421"/>
                  <a:pt x="3696" y="16421"/>
                </a:cubicBezTo>
                <a:cubicBezTo>
                  <a:pt x="3646" y="16421"/>
                  <a:pt x="3760" y="16357"/>
                  <a:pt x="3795" y="16321"/>
                </a:cubicBezTo>
              </a:path>
              <a:path w="7417" h="2730">
                <a:moveTo>
                  <a:pt x="4142" y="15429"/>
                </a:moveTo>
                <a:cubicBezTo>
                  <a:pt x="4029" y="15461"/>
                  <a:pt x="3892" y="15532"/>
                  <a:pt x="3845" y="15652"/>
                </a:cubicBezTo>
                <a:cubicBezTo>
                  <a:pt x="3845" y="15677"/>
                  <a:pt x="3845" y="15701"/>
                  <a:pt x="3845" y="15726"/>
                </a:cubicBezTo>
                <a:cubicBezTo>
                  <a:pt x="3970" y="15766"/>
                  <a:pt x="4539" y="15822"/>
                  <a:pt x="4341" y="16049"/>
                </a:cubicBezTo>
                <a:cubicBezTo>
                  <a:pt x="4195" y="16132"/>
                  <a:pt x="4169" y="16173"/>
                  <a:pt x="4068" y="16123"/>
                </a:cubicBezTo>
                <a:cubicBezTo>
                  <a:pt x="4097" y="15956"/>
                  <a:pt x="4226" y="15672"/>
                  <a:pt x="4118" y="15528"/>
                </a:cubicBezTo>
                <a:cubicBezTo>
                  <a:pt x="4077" y="15508"/>
                  <a:pt x="4061" y="15510"/>
                  <a:pt x="4068" y="15478"/>
                </a:cubicBezTo>
              </a:path>
              <a:path w="7417" h="2730">
                <a:moveTo>
                  <a:pt x="4465" y="15429"/>
                </a:moveTo>
                <a:cubicBezTo>
                  <a:pt x="4475" y="15508"/>
                  <a:pt x="4500" y="15584"/>
                  <a:pt x="4539" y="15652"/>
                </a:cubicBezTo>
                <a:cubicBezTo>
                  <a:pt x="4730" y="15597"/>
                  <a:pt x="4756" y="15587"/>
                  <a:pt x="4862" y="15429"/>
                </a:cubicBezTo>
              </a:path>
              <a:path w="7417" h="2730">
                <a:moveTo>
                  <a:pt x="4663" y="15081"/>
                </a:moveTo>
                <a:cubicBezTo>
                  <a:pt x="4750" y="15334"/>
                  <a:pt x="4825" y="15643"/>
                  <a:pt x="4961" y="15875"/>
                </a:cubicBezTo>
                <a:cubicBezTo>
                  <a:pt x="5012" y="15875"/>
                  <a:pt x="5026" y="15850"/>
                  <a:pt x="5011" y="15776"/>
                </a:cubicBezTo>
              </a:path>
              <a:path w="7417" h="2730">
                <a:moveTo>
                  <a:pt x="4862" y="14957"/>
                </a:moveTo>
                <a:cubicBezTo>
                  <a:pt x="4847" y="15049"/>
                  <a:pt x="4819" y="15123"/>
                  <a:pt x="4862" y="15180"/>
                </a:cubicBezTo>
                <a:cubicBezTo>
                  <a:pt x="4998" y="15099"/>
                  <a:pt x="4969" y="15054"/>
                  <a:pt x="4837" y="14982"/>
                </a:cubicBezTo>
              </a:path>
              <a:path w="7417" h="2730">
                <a:moveTo>
                  <a:pt x="5804" y="15825"/>
                </a:moveTo>
                <a:cubicBezTo>
                  <a:pt x="6063" y="15697"/>
                  <a:pt x="6320" y="15639"/>
                  <a:pt x="6598" y="15553"/>
                </a:cubicBezTo>
                <a:cubicBezTo>
                  <a:pt x="7252" y="15352"/>
                  <a:pt x="7918" y="15197"/>
                  <a:pt x="8582" y="15032"/>
                </a:cubicBezTo>
                <a:cubicBezTo>
                  <a:pt x="8711" y="15000"/>
                  <a:pt x="8740" y="15001"/>
                  <a:pt x="8830" y="14982"/>
                </a:cubicBezTo>
              </a:path>
              <a:path w="7417" h="2730">
                <a:moveTo>
                  <a:pt x="5904" y="14784"/>
                </a:moveTo>
                <a:cubicBezTo>
                  <a:pt x="5930" y="14703"/>
                  <a:pt x="6067" y="14670"/>
                  <a:pt x="6152" y="14635"/>
                </a:cubicBezTo>
                <a:cubicBezTo>
                  <a:pt x="6167" y="14730"/>
                  <a:pt x="6152" y="14808"/>
                  <a:pt x="6152" y="14908"/>
                </a:cubicBezTo>
                <a:cubicBezTo>
                  <a:pt x="6152" y="14916"/>
                  <a:pt x="6152" y="14924"/>
                  <a:pt x="6152" y="14932"/>
                </a:cubicBezTo>
              </a:path>
              <a:path w="7417" h="2730">
                <a:moveTo>
                  <a:pt x="6251" y="15205"/>
                </a:moveTo>
                <a:cubicBezTo>
                  <a:pt x="6251" y="15213"/>
                  <a:pt x="6251" y="15222"/>
                  <a:pt x="6251" y="15230"/>
                </a:cubicBezTo>
              </a:path>
              <a:path w="7417" h="2730">
                <a:moveTo>
                  <a:pt x="9823" y="13965"/>
                </a:moveTo>
                <a:cubicBezTo>
                  <a:pt x="9794" y="14162"/>
                  <a:pt x="9764" y="14340"/>
                  <a:pt x="9748" y="14536"/>
                </a:cubicBezTo>
              </a:path>
              <a:path w="7417" h="2730">
                <a:moveTo>
                  <a:pt x="10344" y="13742"/>
                </a:moveTo>
                <a:cubicBezTo>
                  <a:pt x="10076" y="13946"/>
                  <a:pt x="10108" y="13912"/>
                  <a:pt x="10319" y="14139"/>
                </a:cubicBezTo>
                <a:cubicBezTo>
                  <a:pt x="10411" y="14255"/>
                  <a:pt x="10446" y="14285"/>
                  <a:pt x="10393" y="14387"/>
                </a:cubicBezTo>
                <a:cubicBezTo>
                  <a:pt x="10274" y="14458"/>
                  <a:pt x="10239" y="14484"/>
                  <a:pt x="10145" y="14436"/>
                </a:cubicBezTo>
                <a:cubicBezTo>
                  <a:pt x="10167" y="14104"/>
                  <a:pt x="10328" y="14072"/>
                  <a:pt x="10468" y="13791"/>
                </a:cubicBezTo>
                <a:cubicBezTo>
                  <a:pt x="10460" y="13791"/>
                  <a:pt x="10451" y="13791"/>
                  <a:pt x="10443" y="13791"/>
                </a:cubicBezTo>
              </a:path>
              <a:path w="7417" h="2730">
                <a:moveTo>
                  <a:pt x="10864" y="13717"/>
                </a:moveTo>
                <a:cubicBezTo>
                  <a:pt x="10736" y="13781"/>
                  <a:pt x="10639" y="14054"/>
                  <a:pt x="10641" y="14213"/>
                </a:cubicBezTo>
                <a:cubicBezTo>
                  <a:pt x="10686" y="14392"/>
                  <a:pt x="10685" y="14448"/>
                  <a:pt x="10815" y="14486"/>
                </a:cubicBezTo>
                <a:cubicBezTo>
                  <a:pt x="11041" y="14311"/>
                  <a:pt x="11306" y="14035"/>
                  <a:pt x="11013" y="13742"/>
                </a:cubicBezTo>
                <a:cubicBezTo>
                  <a:pt x="10972" y="13734"/>
                  <a:pt x="10930" y="13725"/>
                  <a:pt x="10889" y="13717"/>
                </a:cubicBezTo>
              </a:path>
              <a:path w="7417" h="2730">
                <a:moveTo>
                  <a:pt x="6672" y="14536"/>
                </a:moveTo>
                <a:cubicBezTo>
                  <a:pt x="6641" y="14468"/>
                  <a:pt x="6502" y="14168"/>
                  <a:pt x="6400" y="14337"/>
                </a:cubicBezTo>
                <a:cubicBezTo>
                  <a:pt x="6353" y="14501"/>
                  <a:pt x="6336" y="14548"/>
                  <a:pt x="6350" y="14660"/>
                </a:cubicBezTo>
                <a:cubicBezTo>
                  <a:pt x="6488" y="14659"/>
                  <a:pt x="6510" y="14571"/>
                  <a:pt x="6598" y="14461"/>
                </a:cubicBezTo>
                <a:cubicBezTo>
                  <a:pt x="6598" y="14453"/>
                  <a:pt x="6598" y="14444"/>
                  <a:pt x="6598" y="14436"/>
                </a:cubicBezTo>
                <a:cubicBezTo>
                  <a:pt x="6641" y="14606"/>
                  <a:pt x="6650" y="14757"/>
                  <a:pt x="6672" y="14932"/>
                </a:cubicBezTo>
                <a:cubicBezTo>
                  <a:pt x="6693" y="15015"/>
                  <a:pt x="6701" y="15066"/>
                  <a:pt x="6697" y="14982"/>
                </a:cubicBezTo>
              </a:path>
              <a:path w="7417" h="2730">
                <a:moveTo>
                  <a:pt x="6846" y="14213"/>
                </a:moveTo>
                <a:cubicBezTo>
                  <a:pt x="6867" y="14413"/>
                  <a:pt x="6884" y="14665"/>
                  <a:pt x="6945" y="14858"/>
                </a:cubicBezTo>
                <a:cubicBezTo>
                  <a:pt x="6962" y="14883"/>
                  <a:pt x="6978" y="14907"/>
                  <a:pt x="6995" y="14932"/>
                </a:cubicBezTo>
                <a:cubicBezTo>
                  <a:pt x="7157" y="14895"/>
                  <a:pt x="7277" y="14756"/>
                  <a:pt x="7243" y="14560"/>
                </a:cubicBezTo>
                <a:cubicBezTo>
                  <a:pt x="7226" y="14552"/>
                  <a:pt x="7210" y="14544"/>
                  <a:pt x="7193" y="14536"/>
                </a:cubicBezTo>
                <a:cubicBezTo>
                  <a:pt x="7093" y="14643"/>
                  <a:pt x="6991" y="14748"/>
                  <a:pt x="7069" y="14883"/>
                </a:cubicBezTo>
              </a:path>
              <a:path w="7417" h="2730">
                <a:moveTo>
                  <a:pt x="7069" y="13841"/>
                </a:moveTo>
                <a:cubicBezTo>
                  <a:pt x="7069" y="13966"/>
                  <a:pt x="7061" y="13994"/>
                  <a:pt x="7094" y="14064"/>
                </a:cubicBezTo>
                <a:cubicBezTo>
                  <a:pt x="7148" y="14029"/>
                  <a:pt x="7337" y="13847"/>
                  <a:pt x="7144" y="13841"/>
                </a:cubicBezTo>
                <a:cubicBezTo>
                  <a:pt x="7111" y="13849"/>
                  <a:pt x="7078" y="13858"/>
                  <a:pt x="7045" y="138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76880" y="3830760"/>
            <a:ext cx="3645000" cy="1295280"/>
          </a:xfrm>
          <a:custGeom>
            <a:avLst/>
            <a:gdLst/>
            <a:ahLst/>
            <a:rect l="l" t="t" r="r" b="b"/>
            <a:pathLst>
              <a:path w="10121" h="3598">
                <a:moveTo>
                  <a:pt x="15131" y="13246"/>
                </a:moveTo>
                <a:cubicBezTo>
                  <a:pt x="15209" y="13142"/>
                  <a:pt x="14977" y="13155"/>
                  <a:pt x="14932" y="13171"/>
                </a:cubicBezTo>
                <a:cubicBezTo>
                  <a:pt x="14738" y="13237"/>
                  <a:pt x="14699" y="13328"/>
                  <a:pt x="14660" y="13494"/>
                </a:cubicBezTo>
                <a:cubicBezTo>
                  <a:pt x="14762" y="13541"/>
                  <a:pt x="15273" y="13637"/>
                  <a:pt x="15131" y="13816"/>
                </a:cubicBezTo>
                <a:cubicBezTo>
                  <a:pt x="15020" y="13883"/>
                  <a:pt x="14994" y="13908"/>
                  <a:pt x="14908" y="13891"/>
                </a:cubicBezTo>
                <a:cubicBezTo>
                  <a:pt x="14957" y="13693"/>
                  <a:pt x="15071" y="13501"/>
                  <a:pt x="15131" y="13295"/>
                </a:cubicBezTo>
                <a:cubicBezTo>
                  <a:pt x="15131" y="13287"/>
                  <a:pt x="15131" y="13279"/>
                  <a:pt x="15131" y="13271"/>
                </a:cubicBezTo>
              </a:path>
              <a:path w="10121" h="3598">
                <a:moveTo>
                  <a:pt x="15354" y="13146"/>
                </a:moveTo>
                <a:cubicBezTo>
                  <a:pt x="15367" y="13249"/>
                  <a:pt x="15384" y="13355"/>
                  <a:pt x="15429" y="13444"/>
                </a:cubicBezTo>
                <a:cubicBezTo>
                  <a:pt x="15558" y="13406"/>
                  <a:pt x="15639" y="13368"/>
                  <a:pt x="15751" y="13295"/>
                </a:cubicBezTo>
              </a:path>
              <a:path w="10121" h="3598">
                <a:moveTo>
                  <a:pt x="15553" y="13022"/>
                </a:moveTo>
                <a:cubicBezTo>
                  <a:pt x="15601" y="13294"/>
                  <a:pt x="15625" y="13571"/>
                  <a:pt x="15677" y="13841"/>
                </a:cubicBezTo>
                <a:cubicBezTo>
                  <a:pt x="15695" y="13898"/>
                  <a:pt x="15703" y="13941"/>
                  <a:pt x="15701" y="13891"/>
                </a:cubicBezTo>
              </a:path>
              <a:path w="10121" h="3598">
                <a:moveTo>
                  <a:pt x="15999" y="13022"/>
                </a:moveTo>
                <a:cubicBezTo>
                  <a:pt x="15921" y="13112"/>
                  <a:pt x="15906" y="13200"/>
                  <a:pt x="15949" y="13320"/>
                </a:cubicBezTo>
                <a:cubicBezTo>
                  <a:pt x="16018" y="13271"/>
                  <a:pt x="16223" y="13113"/>
                  <a:pt x="16024" y="13072"/>
                </a:cubicBezTo>
                <a:cubicBezTo>
                  <a:pt x="15991" y="13072"/>
                  <a:pt x="15958" y="13072"/>
                  <a:pt x="15925" y="13072"/>
                </a:cubicBezTo>
              </a:path>
              <a:path w="10121" h="3598">
                <a:moveTo>
                  <a:pt x="18529" y="12328"/>
                </a:moveTo>
                <a:cubicBezTo>
                  <a:pt x="18667" y="12466"/>
                  <a:pt x="18812" y="12647"/>
                  <a:pt x="18951" y="12799"/>
                </a:cubicBezTo>
                <a:cubicBezTo>
                  <a:pt x="19230" y="13105"/>
                  <a:pt x="19435" y="13433"/>
                  <a:pt x="19645" y="13791"/>
                </a:cubicBezTo>
                <a:cubicBezTo>
                  <a:pt x="19737" y="13947"/>
                  <a:pt x="19778" y="14066"/>
                  <a:pt x="19819" y="14238"/>
                </a:cubicBezTo>
                <a:cubicBezTo>
                  <a:pt x="19950" y="14220"/>
                  <a:pt x="20083" y="14201"/>
                  <a:pt x="20216" y="14188"/>
                </a:cubicBezTo>
                <a:cubicBezTo>
                  <a:pt x="20741" y="14136"/>
                  <a:pt x="21276" y="14163"/>
                  <a:pt x="21803" y="14163"/>
                </a:cubicBezTo>
                <a:cubicBezTo>
                  <a:pt x="22223" y="14163"/>
                  <a:pt x="22741" y="14205"/>
                  <a:pt x="23143" y="14188"/>
                </a:cubicBezTo>
                <a:cubicBezTo>
                  <a:pt x="23243" y="14184"/>
                  <a:pt x="23341" y="14148"/>
                  <a:pt x="23440" y="14139"/>
                </a:cubicBezTo>
                <a:cubicBezTo>
                  <a:pt x="23465" y="14137"/>
                  <a:pt x="23491" y="14143"/>
                  <a:pt x="23515" y="14139"/>
                </a:cubicBezTo>
              </a:path>
              <a:path w="10121" h="3598">
                <a:moveTo>
                  <a:pt x="20513" y="13122"/>
                </a:moveTo>
                <a:cubicBezTo>
                  <a:pt x="20513" y="13318"/>
                  <a:pt x="20533" y="13494"/>
                  <a:pt x="20513" y="13692"/>
                </a:cubicBezTo>
                <a:cubicBezTo>
                  <a:pt x="20504" y="13779"/>
                  <a:pt x="20449" y="13885"/>
                  <a:pt x="20513" y="13841"/>
                </a:cubicBezTo>
              </a:path>
              <a:path w="10121" h="3598">
                <a:moveTo>
                  <a:pt x="20960" y="13146"/>
                </a:moveTo>
                <a:cubicBezTo>
                  <a:pt x="20992" y="13382"/>
                  <a:pt x="21020" y="13578"/>
                  <a:pt x="21010" y="13816"/>
                </a:cubicBezTo>
                <a:cubicBezTo>
                  <a:pt x="21010" y="13841"/>
                  <a:pt x="21010" y="13866"/>
                  <a:pt x="21010" y="13891"/>
                </a:cubicBezTo>
              </a:path>
              <a:path w="10121" h="3598">
                <a:moveTo>
                  <a:pt x="21506" y="13196"/>
                </a:moveTo>
                <a:cubicBezTo>
                  <a:pt x="21450" y="13364"/>
                  <a:pt x="21272" y="13689"/>
                  <a:pt x="21382" y="13866"/>
                </a:cubicBezTo>
                <a:cubicBezTo>
                  <a:pt x="21423" y="13891"/>
                  <a:pt x="21465" y="13915"/>
                  <a:pt x="21506" y="13940"/>
                </a:cubicBezTo>
                <a:cubicBezTo>
                  <a:pt x="21783" y="13813"/>
                  <a:pt x="21936" y="13652"/>
                  <a:pt x="21754" y="13320"/>
                </a:cubicBezTo>
                <a:cubicBezTo>
                  <a:pt x="21637" y="13203"/>
                  <a:pt x="21605" y="13167"/>
                  <a:pt x="21506" y="13122"/>
                </a:cubicBezTo>
              </a:path>
              <a:path w="10121" h="3598">
                <a:moveTo>
                  <a:pt x="22076" y="12601"/>
                </a:moveTo>
                <a:cubicBezTo>
                  <a:pt x="22042" y="12717"/>
                  <a:pt x="22027" y="12777"/>
                  <a:pt x="22027" y="12898"/>
                </a:cubicBezTo>
                <a:cubicBezTo>
                  <a:pt x="22177" y="12824"/>
                  <a:pt x="22242" y="12759"/>
                  <a:pt x="22076" y="12675"/>
                </a:cubicBezTo>
              </a:path>
              <a:path w="10121" h="3598">
                <a:moveTo>
                  <a:pt x="23515" y="10914"/>
                </a:moveTo>
                <a:cubicBezTo>
                  <a:pt x="23515" y="10748"/>
                  <a:pt x="23533" y="11196"/>
                  <a:pt x="23515" y="11361"/>
                </a:cubicBezTo>
                <a:cubicBezTo>
                  <a:pt x="23476" y="11555"/>
                  <a:pt x="23489" y="11592"/>
                  <a:pt x="23416" y="11683"/>
                </a:cubicBezTo>
              </a:path>
              <a:path w="10121" h="3598">
                <a:moveTo>
                  <a:pt x="23937" y="10790"/>
                </a:moveTo>
                <a:cubicBezTo>
                  <a:pt x="23946" y="11050"/>
                  <a:pt x="23981" y="11288"/>
                  <a:pt x="23912" y="11534"/>
                </a:cubicBezTo>
              </a:path>
              <a:path w="10121" h="3598">
                <a:moveTo>
                  <a:pt x="24234" y="10790"/>
                </a:moveTo>
                <a:cubicBezTo>
                  <a:pt x="24147" y="11114"/>
                  <a:pt x="24066" y="11261"/>
                  <a:pt x="24209" y="11559"/>
                </a:cubicBezTo>
                <a:cubicBezTo>
                  <a:pt x="24455" y="11502"/>
                  <a:pt x="24708" y="11309"/>
                  <a:pt x="24532" y="10988"/>
                </a:cubicBezTo>
                <a:cubicBezTo>
                  <a:pt x="24437" y="10815"/>
                  <a:pt x="24288" y="10896"/>
                  <a:pt x="24160" y="10939"/>
                </a:cubicBezTo>
              </a:path>
              <a:path w="10121" h="3598">
                <a:moveTo>
                  <a:pt x="23986" y="11832"/>
                </a:moveTo>
                <a:cubicBezTo>
                  <a:pt x="23836" y="11936"/>
                  <a:pt x="23697" y="12076"/>
                  <a:pt x="23887" y="12229"/>
                </a:cubicBezTo>
                <a:cubicBezTo>
                  <a:pt x="24043" y="12354"/>
                  <a:pt x="24121" y="12283"/>
                  <a:pt x="24036" y="12402"/>
                </a:cubicBezTo>
                <a:cubicBezTo>
                  <a:pt x="23804" y="12433"/>
                  <a:pt x="23859" y="12342"/>
                  <a:pt x="23961" y="12154"/>
                </a:cubicBezTo>
                <a:cubicBezTo>
                  <a:pt x="24000" y="12083"/>
                  <a:pt x="24011" y="12018"/>
                  <a:pt x="24061" y="11956"/>
                </a:cubicBezTo>
              </a:path>
              <a:path w="10121" h="3598">
                <a:moveTo>
                  <a:pt x="24135" y="11931"/>
                </a:moveTo>
                <a:cubicBezTo>
                  <a:pt x="24135" y="11996"/>
                  <a:pt x="24109" y="12103"/>
                  <a:pt x="24160" y="12154"/>
                </a:cubicBezTo>
                <a:cubicBezTo>
                  <a:pt x="24254" y="12249"/>
                  <a:pt x="24376" y="12179"/>
                  <a:pt x="24482" y="12154"/>
                </a:cubicBezTo>
              </a:path>
              <a:path w="10121" h="3598">
                <a:moveTo>
                  <a:pt x="24383" y="11733"/>
                </a:moveTo>
                <a:cubicBezTo>
                  <a:pt x="24357" y="12009"/>
                  <a:pt x="24382" y="12306"/>
                  <a:pt x="24309" y="12576"/>
                </a:cubicBezTo>
                <a:cubicBezTo>
                  <a:pt x="24301" y="12584"/>
                  <a:pt x="24292" y="12593"/>
                  <a:pt x="24284" y="12601"/>
                </a:cubicBezTo>
              </a:path>
              <a:path w="10121" h="3598">
                <a:moveTo>
                  <a:pt x="23118" y="12526"/>
                </a:moveTo>
                <a:cubicBezTo>
                  <a:pt x="23585" y="12483"/>
                  <a:pt x="24188" y="12323"/>
                  <a:pt x="24656" y="12402"/>
                </a:cubicBezTo>
                <a:cubicBezTo>
                  <a:pt x="24648" y="12410"/>
                  <a:pt x="24639" y="12419"/>
                  <a:pt x="24631" y="12427"/>
                </a:cubicBezTo>
              </a:path>
              <a:path w="10121" h="3598">
                <a:moveTo>
                  <a:pt x="23267" y="12973"/>
                </a:moveTo>
                <a:cubicBezTo>
                  <a:pt x="23335" y="13229"/>
                  <a:pt x="23299" y="13474"/>
                  <a:pt x="23341" y="13742"/>
                </a:cubicBezTo>
              </a:path>
              <a:path w="10121" h="3598">
                <a:moveTo>
                  <a:pt x="23812" y="13022"/>
                </a:moveTo>
                <a:cubicBezTo>
                  <a:pt x="23676" y="13159"/>
                  <a:pt x="23633" y="13191"/>
                  <a:pt x="23614" y="13320"/>
                </a:cubicBezTo>
                <a:cubicBezTo>
                  <a:pt x="23809" y="13369"/>
                  <a:pt x="23865" y="13215"/>
                  <a:pt x="23986" y="13047"/>
                </a:cubicBezTo>
                <a:cubicBezTo>
                  <a:pt x="23986" y="13184"/>
                  <a:pt x="23942" y="13830"/>
                  <a:pt x="24011" y="13692"/>
                </a:cubicBezTo>
              </a:path>
              <a:path w="10121" h="3598">
                <a:moveTo>
                  <a:pt x="24036" y="13171"/>
                </a:moveTo>
                <a:cubicBezTo>
                  <a:pt x="24055" y="13377"/>
                  <a:pt x="24052" y="13438"/>
                  <a:pt x="24259" y="13370"/>
                </a:cubicBezTo>
              </a:path>
              <a:path w="10121" h="3598">
                <a:moveTo>
                  <a:pt x="24309" y="12898"/>
                </a:moveTo>
                <a:cubicBezTo>
                  <a:pt x="24309" y="13133"/>
                  <a:pt x="24309" y="13548"/>
                  <a:pt x="24309" y="13692"/>
                </a:cubicBezTo>
              </a:path>
              <a:path w="10121" h="3598">
                <a:moveTo>
                  <a:pt x="24681" y="12824"/>
                </a:moveTo>
                <a:cubicBezTo>
                  <a:pt x="24598" y="12948"/>
                  <a:pt x="24574" y="12961"/>
                  <a:pt x="24631" y="13097"/>
                </a:cubicBezTo>
                <a:cubicBezTo>
                  <a:pt x="24800" y="13041"/>
                  <a:pt x="24833" y="12962"/>
                  <a:pt x="24681" y="12874"/>
                </a:cubicBezTo>
              </a:path>
              <a:path w="10121" h="3598">
                <a:moveTo>
                  <a:pt x="22597" y="10939"/>
                </a:moveTo>
                <a:cubicBezTo>
                  <a:pt x="23033" y="11598"/>
                  <a:pt x="23529" y="12174"/>
                  <a:pt x="24011" y="12799"/>
                </a:cubicBezTo>
                <a:cubicBezTo>
                  <a:pt x="24283" y="13151"/>
                  <a:pt x="24534" y="13529"/>
                  <a:pt x="24755" y="13915"/>
                </a:cubicBezTo>
              </a:path>
              <a:path w="10121" h="3598">
                <a:moveTo>
                  <a:pt x="24408" y="10641"/>
                </a:moveTo>
                <a:cubicBezTo>
                  <a:pt x="24232" y="11167"/>
                  <a:pt x="23994" y="11687"/>
                  <a:pt x="23738" y="12179"/>
                </a:cubicBezTo>
                <a:cubicBezTo>
                  <a:pt x="23450" y="12733"/>
                  <a:pt x="23069" y="13230"/>
                  <a:pt x="22796" y="13791"/>
                </a:cubicBezTo>
                <a:cubicBezTo>
                  <a:pt x="22796" y="13799"/>
                  <a:pt x="22796" y="13808"/>
                  <a:pt x="22796" y="13816"/>
                </a:cubicBezTo>
              </a:path>
              <a:path w="10121" h="3598">
                <a:moveTo>
                  <a:pt x="16222" y="12874"/>
                </a:moveTo>
                <a:cubicBezTo>
                  <a:pt x="16342" y="13201"/>
                  <a:pt x="16604" y="13644"/>
                  <a:pt x="16446" y="13965"/>
                </a:cubicBezTo>
              </a:path>
              <a:path w="10121" h="3598">
                <a:moveTo>
                  <a:pt x="16272" y="12923"/>
                </a:moveTo>
                <a:cubicBezTo>
                  <a:pt x="16614" y="13316"/>
                  <a:pt x="16937" y="13763"/>
                  <a:pt x="17512" y="13791"/>
                </a:cubicBezTo>
                <a:cubicBezTo>
                  <a:pt x="17537" y="13775"/>
                  <a:pt x="17562" y="13758"/>
                  <a:pt x="17587" y="13742"/>
                </a:cubicBezTo>
                <a:cubicBezTo>
                  <a:pt x="17458" y="13345"/>
                  <a:pt x="17269" y="12971"/>
                  <a:pt x="17214" y="12551"/>
                </a:cubicBezTo>
                <a:cubicBezTo>
                  <a:pt x="17222" y="12576"/>
                  <a:pt x="17231" y="12601"/>
                  <a:pt x="17239" y="12626"/>
                </a:cubicBezTo>
              </a:path>
              <a:path w="10121" h="3598">
                <a:moveTo>
                  <a:pt x="18207" y="13047"/>
                </a:moveTo>
                <a:cubicBezTo>
                  <a:pt x="17951" y="13277"/>
                  <a:pt x="17912" y="13348"/>
                  <a:pt x="17859" y="13692"/>
                </a:cubicBezTo>
                <a:cubicBezTo>
                  <a:pt x="18146" y="13692"/>
                  <a:pt x="18633" y="13490"/>
                  <a:pt x="18331" y="13072"/>
                </a:cubicBezTo>
                <a:cubicBezTo>
                  <a:pt x="18131" y="12961"/>
                  <a:pt x="18083" y="12924"/>
                  <a:pt x="17934" y="12923"/>
                </a:cubicBezTo>
              </a:path>
              <a:path w="10121" h="3598">
                <a:moveTo>
                  <a:pt x="18951" y="12105"/>
                </a:moveTo>
                <a:cubicBezTo>
                  <a:pt x="19102" y="12494"/>
                  <a:pt x="19346" y="12881"/>
                  <a:pt x="19447" y="13271"/>
                </a:cubicBezTo>
              </a:path>
              <a:path w="10121" h="3598">
                <a:moveTo>
                  <a:pt x="18901" y="12849"/>
                </a:moveTo>
                <a:cubicBezTo>
                  <a:pt x="19207" y="12716"/>
                  <a:pt x="19515" y="12587"/>
                  <a:pt x="19819" y="124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14800" y="4633920"/>
            <a:ext cx="992160" cy="1573200"/>
          </a:xfrm>
          <a:custGeom>
            <a:avLst/>
            <a:gdLst/>
            <a:ahLst/>
            <a:rect l="l" t="t" r="r" b="b"/>
            <a:pathLst>
              <a:path w="2754" h="4366">
                <a:moveTo>
                  <a:pt x="9203" y="15230"/>
                </a:moveTo>
                <a:cubicBezTo>
                  <a:pt x="9325" y="15197"/>
                  <a:pt x="9449" y="15171"/>
                  <a:pt x="9575" y="15156"/>
                </a:cubicBezTo>
              </a:path>
              <a:path w="2754" h="4366">
                <a:moveTo>
                  <a:pt x="10542" y="15007"/>
                </a:moveTo>
                <a:cubicBezTo>
                  <a:pt x="10637" y="14881"/>
                  <a:pt x="10365" y="14993"/>
                  <a:pt x="10344" y="15007"/>
                </a:cubicBezTo>
                <a:cubicBezTo>
                  <a:pt x="10029" y="15216"/>
                  <a:pt x="10306" y="15309"/>
                  <a:pt x="10492" y="15404"/>
                </a:cubicBezTo>
                <a:cubicBezTo>
                  <a:pt x="10596" y="15466"/>
                  <a:pt x="10637" y="15468"/>
                  <a:pt x="10616" y="15553"/>
                </a:cubicBezTo>
                <a:cubicBezTo>
                  <a:pt x="10502" y="15598"/>
                  <a:pt x="10470" y="15617"/>
                  <a:pt x="10393" y="15577"/>
                </a:cubicBezTo>
                <a:cubicBezTo>
                  <a:pt x="10430" y="15362"/>
                  <a:pt x="10491" y="15250"/>
                  <a:pt x="10641" y="15081"/>
                </a:cubicBezTo>
              </a:path>
              <a:path w="2754" h="4366">
                <a:moveTo>
                  <a:pt x="10914" y="14932"/>
                </a:moveTo>
                <a:cubicBezTo>
                  <a:pt x="10914" y="15073"/>
                  <a:pt x="10915" y="15116"/>
                  <a:pt x="10889" y="15205"/>
                </a:cubicBezTo>
                <a:cubicBezTo>
                  <a:pt x="11111" y="15298"/>
                  <a:pt x="11188" y="15164"/>
                  <a:pt x="11311" y="14982"/>
                </a:cubicBezTo>
              </a:path>
              <a:path w="2754" h="4366">
                <a:moveTo>
                  <a:pt x="11187" y="14833"/>
                </a:moveTo>
                <a:cubicBezTo>
                  <a:pt x="11187" y="15101"/>
                  <a:pt x="11188" y="15362"/>
                  <a:pt x="11162" y="15627"/>
                </a:cubicBezTo>
              </a:path>
              <a:path w="2754" h="4366">
                <a:moveTo>
                  <a:pt x="8930" y="15999"/>
                </a:moveTo>
                <a:cubicBezTo>
                  <a:pt x="9593" y="15933"/>
                  <a:pt x="10272" y="15854"/>
                  <a:pt x="10939" y="15875"/>
                </a:cubicBezTo>
                <a:cubicBezTo>
                  <a:pt x="11152" y="15882"/>
                  <a:pt x="11464" y="15916"/>
                  <a:pt x="11683" y="15974"/>
                </a:cubicBezTo>
              </a:path>
              <a:path w="2754" h="4366">
                <a:moveTo>
                  <a:pt x="9971" y="13667"/>
                </a:moveTo>
                <a:cubicBezTo>
                  <a:pt x="10146" y="13783"/>
                  <a:pt x="10253" y="14101"/>
                  <a:pt x="10344" y="14312"/>
                </a:cubicBezTo>
                <a:cubicBezTo>
                  <a:pt x="10416" y="14480"/>
                  <a:pt x="10393" y="14454"/>
                  <a:pt x="10393" y="14337"/>
                </a:cubicBezTo>
              </a:path>
              <a:path w="2754" h="4366">
                <a:moveTo>
                  <a:pt x="9897" y="13022"/>
                </a:moveTo>
                <a:cubicBezTo>
                  <a:pt x="10047" y="13001"/>
                  <a:pt x="10193" y="12981"/>
                  <a:pt x="10344" y="12973"/>
                </a:cubicBezTo>
                <a:cubicBezTo>
                  <a:pt x="10302" y="13158"/>
                  <a:pt x="10241" y="13365"/>
                  <a:pt x="10170" y="13543"/>
                </a:cubicBezTo>
                <a:cubicBezTo>
                  <a:pt x="10162" y="13551"/>
                  <a:pt x="10153" y="13560"/>
                  <a:pt x="10145" y="13568"/>
                </a:cubicBezTo>
              </a:path>
              <a:path w="2754" h="4366">
                <a:moveTo>
                  <a:pt x="10740" y="13568"/>
                </a:moveTo>
                <a:cubicBezTo>
                  <a:pt x="10707" y="13687"/>
                  <a:pt x="10680" y="13794"/>
                  <a:pt x="10666" y="13915"/>
                </a:cubicBezTo>
              </a:path>
              <a:path w="2754" h="4366">
                <a:moveTo>
                  <a:pt x="11336" y="16222"/>
                </a:moveTo>
                <a:cubicBezTo>
                  <a:pt x="11336" y="16435"/>
                  <a:pt x="11279" y="16632"/>
                  <a:pt x="11261" y="16842"/>
                </a:cubicBezTo>
                <a:cubicBezTo>
                  <a:pt x="11261" y="16998"/>
                  <a:pt x="11230" y="17034"/>
                  <a:pt x="11311" y="17090"/>
                </a:cubicBezTo>
                <a:cubicBezTo>
                  <a:pt x="11552" y="17006"/>
                  <a:pt x="11605" y="16914"/>
                  <a:pt x="11683" y="16669"/>
                </a:cubicBezTo>
                <a:cubicBezTo>
                  <a:pt x="11511" y="16737"/>
                  <a:pt x="11499" y="16847"/>
                  <a:pt x="11460" y="17016"/>
                </a:cubicBezTo>
                <a:cubicBezTo>
                  <a:pt x="11460" y="17008"/>
                  <a:pt x="11460" y="16999"/>
                  <a:pt x="11460" y="16991"/>
                </a:cubicBezTo>
              </a:path>
              <a:path w="2754" h="4366">
                <a:moveTo>
                  <a:pt x="9599" y="13965"/>
                </a:moveTo>
                <a:cubicBezTo>
                  <a:pt x="9750" y="14143"/>
                  <a:pt x="9844" y="14342"/>
                  <a:pt x="9971" y="14536"/>
                </a:cubicBezTo>
                <a:cubicBezTo>
                  <a:pt x="9979" y="14544"/>
                  <a:pt x="9988" y="14552"/>
                  <a:pt x="9996" y="14560"/>
                </a:cubicBezTo>
              </a:path>
              <a:path w="2754" h="4366">
                <a:moveTo>
                  <a:pt x="9227" y="13171"/>
                </a:moveTo>
                <a:cubicBezTo>
                  <a:pt x="9162" y="13306"/>
                  <a:pt x="9196" y="13524"/>
                  <a:pt x="9227" y="13692"/>
                </a:cubicBezTo>
                <a:cubicBezTo>
                  <a:pt x="9401" y="13682"/>
                  <a:pt x="9587" y="13552"/>
                  <a:pt x="9451" y="13320"/>
                </a:cubicBezTo>
                <a:cubicBezTo>
                  <a:pt x="9393" y="13221"/>
                  <a:pt x="9298" y="13210"/>
                  <a:pt x="9203" y="13196"/>
                </a:cubicBezTo>
              </a:path>
              <a:path w="2754" h="4366">
                <a:moveTo>
                  <a:pt x="9699" y="12874"/>
                </a:moveTo>
                <a:cubicBezTo>
                  <a:pt x="9711" y="13023"/>
                  <a:pt x="9721" y="13175"/>
                  <a:pt x="9748" y="13320"/>
                </a:cubicBezTo>
              </a:path>
              <a:path w="2754" h="4366">
                <a:moveTo>
                  <a:pt x="10740" y="16470"/>
                </a:moveTo>
                <a:cubicBezTo>
                  <a:pt x="10792" y="16351"/>
                  <a:pt x="10745" y="16196"/>
                  <a:pt x="10616" y="16123"/>
                </a:cubicBezTo>
                <a:cubicBezTo>
                  <a:pt x="10575" y="16115"/>
                  <a:pt x="10533" y="16106"/>
                  <a:pt x="10492" y="16098"/>
                </a:cubicBezTo>
                <a:cubicBezTo>
                  <a:pt x="10410" y="16227"/>
                  <a:pt x="10184" y="16646"/>
                  <a:pt x="10517" y="16669"/>
                </a:cubicBezTo>
                <a:cubicBezTo>
                  <a:pt x="10708" y="16682"/>
                  <a:pt x="10729" y="16424"/>
                  <a:pt x="10740" y="16297"/>
                </a:cubicBezTo>
                <a:cubicBezTo>
                  <a:pt x="10740" y="16514"/>
                  <a:pt x="10738" y="16725"/>
                  <a:pt x="10716" y="16942"/>
                </a:cubicBezTo>
                <a:cubicBezTo>
                  <a:pt x="10705" y="17054"/>
                  <a:pt x="10691" y="17133"/>
                  <a:pt x="10691" y="172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29240" y="4875120"/>
            <a:ext cx="1054080" cy="527040"/>
          </a:xfrm>
          <a:custGeom>
            <a:avLst/>
            <a:gdLst/>
            <a:ahLst/>
            <a:rect l="l" t="t" r="r" b="b"/>
            <a:pathLst>
              <a:path w="2928" h="1465">
                <a:moveTo>
                  <a:pt x="17983" y="14213"/>
                </a:moveTo>
                <a:cubicBezTo>
                  <a:pt x="17928" y="14560"/>
                  <a:pt x="18134" y="14490"/>
                  <a:pt x="18455" y="14635"/>
                </a:cubicBezTo>
                <a:cubicBezTo>
                  <a:pt x="18308" y="14955"/>
                  <a:pt x="18160" y="15027"/>
                  <a:pt x="17859" y="14883"/>
                </a:cubicBezTo>
              </a:path>
              <a:path w="2928" h="1465">
                <a:moveTo>
                  <a:pt x="18529" y="14213"/>
                </a:moveTo>
                <a:cubicBezTo>
                  <a:pt x="18657" y="14451"/>
                  <a:pt x="18746" y="14751"/>
                  <a:pt x="19000" y="14784"/>
                </a:cubicBezTo>
              </a:path>
              <a:path w="2928" h="1465">
                <a:moveTo>
                  <a:pt x="18976" y="14114"/>
                </a:moveTo>
                <a:cubicBezTo>
                  <a:pt x="18987" y="14224"/>
                  <a:pt x="18999" y="14601"/>
                  <a:pt x="19174" y="14610"/>
                </a:cubicBezTo>
                <a:cubicBezTo>
                  <a:pt x="19334" y="14618"/>
                  <a:pt x="19392" y="14441"/>
                  <a:pt x="19447" y="14337"/>
                </a:cubicBezTo>
              </a:path>
              <a:path w="2928" h="1465">
                <a:moveTo>
                  <a:pt x="19298" y="14064"/>
                </a:moveTo>
                <a:cubicBezTo>
                  <a:pt x="19438" y="14327"/>
                  <a:pt x="19597" y="14576"/>
                  <a:pt x="19745" y="14833"/>
                </a:cubicBezTo>
                <a:cubicBezTo>
                  <a:pt x="19520" y="14643"/>
                  <a:pt x="19222" y="14245"/>
                  <a:pt x="19372" y="13915"/>
                </a:cubicBezTo>
                <a:cubicBezTo>
                  <a:pt x="19447" y="13866"/>
                  <a:pt x="19521" y="13816"/>
                  <a:pt x="19596" y="13767"/>
                </a:cubicBezTo>
                <a:cubicBezTo>
                  <a:pt x="19754" y="13904"/>
                  <a:pt x="20064" y="14528"/>
                  <a:pt x="19496" y="14362"/>
                </a:cubicBezTo>
                <a:cubicBezTo>
                  <a:pt x="19455" y="14312"/>
                  <a:pt x="19413" y="14263"/>
                  <a:pt x="19372" y="14213"/>
                </a:cubicBezTo>
              </a:path>
              <a:path w="2928" h="1465">
                <a:moveTo>
                  <a:pt x="20117" y="14015"/>
                </a:moveTo>
                <a:cubicBezTo>
                  <a:pt x="20212" y="14229"/>
                  <a:pt x="20623" y="14594"/>
                  <a:pt x="20389" y="14585"/>
                </a:cubicBezTo>
                <a:cubicBezTo>
                  <a:pt x="20138" y="14180"/>
                  <a:pt x="20050" y="13983"/>
                  <a:pt x="20216" y="13543"/>
                </a:cubicBezTo>
                <a:cubicBezTo>
                  <a:pt x="20519" y="13722"/>
                  <a:pt x="20772" y="14052"/>
                  <a:pt x="20265" y="14288"/>
                </a:cubicBezTo>
                <a:cubicBezTo>
                  <a:pt x="20057" y="14310"/>
                  <a:pt x="19991" y="14331"/>
                  <a:pt x="19943" y="14163"/>
                </a:cubicBezTo>
              </a:path>
              <a:path w="2928" h="1465">
                <a:moveTo>
                  <a:pt x="18802" y="14784"/>
                </a:moveTo>
                <a:cubicBezTo>
                  <a:pt x="18978" y="14675"/>
                  <a:pt x="19089" y="14582"/>
                  <a:pt x="19199" y="14412"/>
                </a:cubicBezTo>
              </a:path>
              <a:path w="2928" h="1465">
                <a:moveTo>
                  <a:pt x="20737" y="14064"/>
                </a:moveTo>
                <a:cubicBezTo>
                  <a:pt x="20686" y="14064"/>
                  <a:pt x="20793" y="14028"/>
                  <a:pt x="20786" y="13965"/>
                </a:cubicBezTo>
                <a:cubicBezTo>
                  <a:pt x="20783" y="13943"/>
                  <a:pt x="20686" y="14040"/>
                  <a:pt x="20662" y="140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26000" y="2473200"/>
            <a:ext cx="1044720" cy="401760"/>
          </a:xfrm>
          <a:custGeom>
            <a:avLst/>
            <a:gdLst/>
            <a:ahLst/>
            <a:rect l="l" t="t" r="r" b="b"/>
            <a:pathLst>
              <a:path w="2903" h="1117">
                <a:moveTo>
                  <a:pt x="13171" y="6871"/>
                </a:moveTo>
                <a:cubicBezTo>
                  <a:pt x="13009" y="7033"/>
                  <a:pt x="12860" y="7394"/>
                  <a:pt x="12849" y="7640"/>
                </a:cubicBezTo>
                <a:cubicBezTo>
                  <a:pt x="12841" y="7823"/>
                  <a:pt x="12977" y="7959"/>
                  <a:pt x="13146" y="7987"/>
                </a:cubicBezTo>
                <a:cubicBezTo>
                  <a:pt x="13154" y="7987"/>
                  <a:pt x="13163" y="7987"/>
                  <a:pt x="13171" y="7987"/>
                </a:cubicBezTo>
              </a:path>
              <a:path w="2903" h="1117">
                <a:moveTo>
                  <a:pt x="13395" y="7293"/>
                </a:moveTo>
                <a:cubicBezTo>
                  <a:pt x="13395" y="7491"/>
                  <a:pt x="13395" y="7690"/>
                  <a:pt x="13395" y="7888"/>
                </a:cubicBezTo>
                <a:cubicBezTo>
                  <a:pt x="13375" y="7689"/>
                  <a:pt x="13295" y="7399"/>
                  <a:pt x="13419" y="7218"/>
                </a:cubicBezTo>
                <a:cubicBezTo>
                  <a:pt x="13584" y="6977"/>
                  <a:pt x="13669" y="7665"/>
                  <a:pt x="13667" y="7714"/>
                </a:cubicBezTo>
                <a:cubicBezTo>
                  <a:pt x="13662" y="7631"/>
                  <a:pt x="13632" y="6934"/>
                  <a:pt x="13915" y="7193"/>
                </a:cubicBezTo>
                <a:cubicBezTo>
                  <a:pt x="14119" y="7381"/>
                  <a:pt x="13992" y="7753"/>
                  <a:pt x="14238" y="7714"/>
                </a:cubicBezTo>
              </a:path>
              <a:path w="2903" h="1117">
                <a:moveTo>
                  <a:pt x="14635" y="7441"/>
                </a:moveTo>
                <a:cubicBezTo>
                  <a:pt x="14524" y="7266"/>
                  <a:pt x="14420" y="7365"/>
                  <a:pt x="14362" y="7565"/>
                </a:cubicBezTo>
                <a:cubicBezTo>
                  <a:pt x="14262" y="7909"/>
                  <a:pt x="14584" y="7626"/>
                  <a:pt x="14635" y="7466"/>
                </a:cubicBezTo>
                <a:cubicBezTo>
                  <a:pt x="14568" y="7405"/>
                  <a:pt x="14630" y="7731"/>
                  <a:pt x="14808" y="7714"/>
                </a:cubicBezTo>
                <a:cubicBezTo>
                  <a:pt x="14849" y="7689"/>
                  <a:pt x="14891" y="7665"/>
                  <a:pt x="14932" y="7640"/>
                </a:cubicBezTo>
              </a:path>
              <a:path w="2903" h="1117">
                <a:moveTo>
                  <a:pt x="14932" y="7193"/>
                </a:moveTo>
                <a:cubicBezTo>
                  <a:pt x="14964" y="7350"/>
                  <a:pt x="14978" y="7893"/>
                  <a:pt x="15081" y="7714"/>
                </a:cubicBezTo>
              </a:path>
              <a:path w="2903" h="1117">
                <a:moveTo>
                  <a:pt x="15180" y="7193"/>
                </a:moveTo>
                <a:cubicBezTo>
                  <a:pt x="15094" y="7332"/>
                  <a:pt x="15106" y="7372"/>
                  <a:pt x="14957" y="7417"/>
                </a:cubicBezTo>
                <a:cubicBezTo>
                  <a:pt x="15095" y="7306"/>
                  <a:pt x="15192" y="7461"/>
                  <a:pt x="15280" y="7565"/>
                </a:cubicBezTo>
                <a:cubicBezTo>
                  <a:pt x="15356" y="7655"/>
                  <a:pt x="15324" y="7701"/>
                  <a:pt x="15379" y="7590"/>
                </a:cubicBezTo>
              </a:path>
              <a:path w="2903" h="1117">
                <a:moveTo>
                  <a:pt x="15478" y="7367"/>
                </a:moveTo>
                <a:cubicBezTo>
                  <a:pt x="15547" y="7372"/>
                  <a:pt x="15609" y="7382"/>
                  <a:pt x="15677" y="7392"/>
                </a:cubicBezTo>
                <a:cubicBezTo>
                  <a:pt x="15609" y="7287"/>
                  <a:pt x="15544" y="7131"/>
                  <a:pt x="15453" y="7317"/>
                </a:cubicBezTo>
                <a:cubicBezTo>
                  <a:pt x="15383" y="7460"/>
                  <a:pt x="15428" y="7803"/>
                  <a:pt x="15677" y="7689"/>
                </a:cubicBezTo>
                <a:cubicBezTo>
                  <a:pt x="15702" y="7656"/>
                  <a:pt x="15726" y="7623"/>
                  <a:pt x="15751" y="75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81840" y="2500200"/>
            <a:ext cx="1741320" cy="428760"/>
          </a:xfrm>
          <a:custGeom>
            <a:avLst/>
            <a:gdLst/>
            <a:ahLst/>
            <a:rect l="l" t="t" r="r" b="b"/>
            <a:pathLst>
              <a:path w="4838" h="1192">
                <a:moveTo>
                  <a:pt x="17165" y="7417"/>
                </a:moveTo>
                <a:cubicBezTo>
                  <a:pt x="17165" y="7524"/>
                  <a:pt x="17168" y="7353"/>
                  <a:pt x="17115" y="7317"/>
                </a:cubicBezTo>
                <a:cubicBezTo>
                  <a:pt x="17082" y="7309"/>
                  <a:pt x="17049" y="7301"/>
                  <a:pt x="17016" y="7293"/>
                </a:cubicBezTo>
                <a:cubicBezTo>
                  <a:pt x="16915" y="7495"/>
                  <a:pt x="16902" y="7510"/>
                  <a:pt x="16966" y="7714"/>
                </a:cubicBezTo>
                <a:cubicBezTo>
                  <a:pt x="17111" y="7610"/>
                  <a:pt x="17132" y="7574"/>
                  <a:pt x="17190" y="7392"/>
                </a:cubicBezTo>
                <a:cubicBezTo>
                  <a:pt x="17290" y="7594"/>
                  <a:pt x="17308" y="7626"/>
                  <a:pt x="17512" y="7615"/>
                </a:cubicBezTo>
              </a:path>
              <a:path w="4838" h="1192">
                <a:moveTo>
                  <a:pt x="18008" y="7169"/>
                </a:moveTo>
                <a:cubicBezTo>
                  <a:pt x="17914" y="7206"/>
                  <a:pt x="17896" y="7199"/>
                  <a:pt x="17859" y="7243"/>
                </a:cubicBezTo>
                <a:cubicBezTo>
                  <a:pt x="17954" y="7285"/>
                  <a:pt x="18044" y="7353"/>
                  <a:pt x="18132" y="7417"/>
                </a:cubicBezTo>
                <a:cubicBezTo>
                  <a:pt x="18044" y="7627"/>
                  <a:pt x="17919" y="7585"/>
                  <a:pt x="17760" y="7466"/>
                </a:cubicBezTo>
              </a:path>
              <a:path w="4838" h="1192">
                <a:moveTo>
                  <a:pt x="18331" y="6995"/>
                </a:moveTo>
                <a:cubicBezTo>
                  <a:pt x="18392" y="7161"/>
                  <a:pt x="18630" y="7550"/>
                  <a:pt x="18604" y="7665"/>
                </a:cubicBezTo>
              </a:path>
              <a:path w="4838" h="1192">
                <a:moveTo>
                  <a:pt x="18207" y="7367"/>
                </a:moveTo>
                <a:cubicBezTo>
                  <a:pt x="18390" y="7325"/>
                  <a:pt x="18712" y="7177"/>
                  <a:pt x="18852" y="7342"/>
                </a:cubicBezTo>
                <a:cubicBezTo>
                  <a:pt x="18900" y="7463"/>
                  <a:pt x="18916" y="7501"/>
                  <a:pt x="18901" y="7590"/>
                </a:cubicBezTo>
                <a:cubicBezTo>
                  <a:pt x="18901" y="7420"/>
                  <a:pt x="18905" y="7278"/>
                  <a:pt x="19025" y="7144"/>
                </a:cubicBezTo>
                <a:cubicBezTo>
                  <a:pt x="19100" y="7094"/>
                  <a:pt x="19125" y="7077"/>
                  <a:pt x="19174" y="7144"/>
                </a:cubicBezTo>
              </a:path>
              <a:path w="4838" h="1192">
                <a:moveTo>
                  <a:pt x="19372" y="7243"/>
                </a:moveTo>
                <a:cubicBezTo>
                  <a:pt x="19271" y="7141"/>
                  <a:pt x="19162" y="7367"/>
                  <a:pt x="19149" y="7466"/>
                </a:cubicBezTo>
                <a:cubicBezTo>
                  <a:pt x="19116" y="7711"/>
                  <a:pt x="19352" y="7362"/>
                  <a:pt x="19372" y="7293"/>
                </a:cubicBezTo>
                <a:cubicBezTo>
                  <a:pt x="19395" y="7403"/>
                  <a:pt x="19473" y="7489"/>
                  <a:pt x="19596" y="7466"/>
                </a:cubicBezTo>
                <a:cubicBezTo>
                  <a:pt x="19689" y="7404"/>
                  <a:pt x="19721" y="7366"/>
                  <a:pt x="19720" y="7268"/>
                </a:cubicBezTo>
              </a:path>
              <a:path w="4838" h="1192">
                <a:moveTo>
                  <a:pt x="19720" y="7367"/>
                </a:moveTo>
                <a:cubicBezTo>
                  <a:pt x="19740" y="7468"/>
                  <a:pt x="19738" y="7488"/>
                  <a:pt x="19769" y="7541"/>
                </a:cubicBezTo>
              </a:path>
              <a:path w="4838" h="1192">
                <a:moveTo>
                  <a:pt x="19769" y="7541"/>
                </a:moveTo>
                <a:lnTo>
                  <a:pt x="19769" y="7541"/>
                </a:lnTo>
              </a:path>
              <a:path w="4838" h="1192">
                <a:moveTo>
                  <a:pt x="19670" y="6970"/>
                </a:moveTo>
                <a:lnTo>
                  <a:pt x="19670" y="6970"/>
                </a:lnTo>
              </a:path>
              <a:path w="4838" h="1192">
                <a:moveTo>
                  <a:pt x="20117" y="7218"/>
                </a:moveTo>
                <a:cubicBezTo>
                  <a:pt x="19991" y="7232"/>
                  <a:pt x="19949" y="7350"/>
                  <a:pt x="19918" y="7491"/>
                </a:cubicBezTo>
                <a:cubicBezTo>
                  <a:pt x="20081" y="7461"/>
                  <a:pt x="20122" y="7447"/>
                  <a:pt x="20166" y="7268"/>
                </a:cubicBezTo>
                <a:cubicBezTo>
                  <a:pt x="20219" y="7480"/>
                  <a:pt x="20343" y="7713"/>
                  <a:pt x="20340" y="7938"/>
                </a:cubicBezTo>
                <a:cubicBezTo>
                  <a:pt x="20335" y="8291"/>
                  <a:pt x="20036" y="8080"/>
                  <a:pt x="19943" y="7962"/>
                </a:cubicBezTo>
              </a:path>
              <a:path w="4838" h="1192">
                <a:moveTo>
                  <a:pt x="20464" y="6970"/>
                </a:moveTo>
                <a:cubicBezTo>
                  <a:pt x="20476" y="7174"/>
                  <a:pt x="20515" y="7363"/>
                  <a:pt x="20538" y="7565"/>
                </a:cubicBezTo>
                <a:cubicBezTo>
                  <a:pt x="20550" y="7411"/>
                  <a:pt x="20559" y="7297"/>
                  <a:pt x="20662" y="7193"/>
                </a:cubicBezTo>
                <a:cubicBezTo>
                  <a:pt x="20772" y="7395"/>
                  <a:pt x="20800" y="7604"/>
                  <a:pt x="20985" y="7466"/>
                </a:cubicBezTo>
              </a:path>
              <a:path w="4838" h="1192">
                <a:moveTo>
                  <a:pt x="21084" y="6945"/>
                </a:moveTo>
                <a:cubicBezTo>
                  <a:pt x="21108" y="7168"/>
                  <a:pt x="21136" y="7392"/>
                  <a:pt x="21158" y="7615"/>
                </a:cubicBezTo>
              </a:path>
              <a:path w="4838" h="1192">
                <a:moveTo>
                  <a:pt x="20935" y="7218"/>
                </a:moveTo>
                <a:cubicBezTo>
                  <a:pt x="21202" y="7226"/>
                  <a:pt x="21457" y="7204"/>
                  <a:pt x="21729" y="71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983360" y="2384280"/>
            <a:ext cx="884520" cy="625680"/>
          </a:xfrm>
          <a:custGeom>
            <a:avLst/>
            <a:gdLst/>
            <a:ahLst/>
            <a:rect l="l" t="t" r="r" b="b"/>
            <a:pathLst>
              <a:path w="2457" h="1737">
                <a:moveTo>
                  <a:pt x="22671" y="7565"/>
                </a:moveTo>
                <a:cubicBezTo>
                  <a:pt x="22563" y="7511"/>
                  <a:pt x="22559" y="7354"/>
                  <a:pt x="22374" y="7417"/>
                </a:cubicBezTo>
                <a:cubicBezTo>
                  <a:pt x="22162" y="7489"/>
                  <a:pt x="22204" y="7662"/>
                  <a:pt x="22225" y="7813"/>
                </a:cubicBezTo>
                <a:cubicBezTo>
                  <a:pt x="22379" y="7768"/>
                  <a:pt x="22449" y="7639"/>
                  <a:pt x="22498" y="7590"/>
                </a:cubicBezTo>
                <a:cubicBezTo>
                  <a:pt x="22587" y="7768"/>
                  <a:pt x="22680" y="7684"/>
                  <a:pt x="22796" y="7565"/>
                </a:cubicBezTo>
                <a:cubicBezTo>
                  <a:pt x="23004" y="7352"/>
                  <a:pt x="22915" y="7669"/>
                  <a:pt x="22870" y="7714"/>
                </a:cubicBezTo>
                <a:cubicBezTo>
                  <a:pt x="22862" y="7698"/>
                  <a:pt x="22853" y="7681"/>
                  <a:pt x="22845" y="7665"/>
                </a:cubicBezTo>
                <a:cubicBezTo>
                  <a:pt x="22869" y="7567"/>
                  <a:pt x="22902" y="7236"/>
                  <a:pt x="23044" y="7466"/>
                </a:cubicBezTo>
                <a:cubicBezTo>
                  <a:pt x="23090" y="7582"/>
                  <a:pt x="23100" y="7616"/>
                  <a:pt x="23168" y="7665"/>
                </a:cubicBezTo>
              </a:path>
              <a:path w="2457" h="1737">
                <a:moveTo>
                  <a:pt x="23490" y="7317"/>
                </a:moveTo>
                <a:cubicBezTo>
                  <a:pt x="23350" y="7449"/>
                  <a:pt x="23317" y="7545"/>
                  <a:pt x="23267" y="7739"/>
                </a:cubicBezTo>
                <a:cubicBezTo>
                  <a:pt x="23474" y="7739"/>
                  <a:pt x="23369" y="7528"/>
                  <a:pt x="23465" y="7392"/>
                </a:cubicBezTo>
                <a:cubicBezTo>
                  <a:pt x="23591" y="7214"/>
                  <a:pt x="23632" y="7769"/>
                  <a:pt x="23639" y="7987"/>
                </a:cubicBezTo>
                <a:cubicBezTo>
                  <a:pt x="23654" y="8439"/>
                  <a:pt x="23204" y="8353"/>
                  <a:pt x="22969" y="8235"/>
                </a:cubicBezTo>
              </a:path>
              <a:path w="2457" h="1737">
                <a:moveTo>
                  <a:pt x="23688" y="6995"/>
                </a:moveTo>
                <a:cubicBezTo>
                  <a:pt x="23721" y="7218"/>
                  <a:pt x="23738" y="7414"/>
                  <a:pt x="23738" y="7640"/>
                </a:cubicBezTo>
              </a:path>
              <a:path w="2457" h="1737">
                <a:moveTo>
                  <a:pt x="23986" y="7392"/>
                </a:moveTo>
                <a:cubicBezTo>
                  <a:pt x="24052" y="7392"/>
                  <a:pt x="24119" y="7392"/>
                  <a:pt x="24185" y="7392"/>
                </a:cubicBezTo>
                <a:cubicBezTo>
                  <a:pt x="24184" y="7388"/>
                  <a:pt x="24118" y="7269"/>
                  <a:pt x="24110" y="7268"/>
                </a:cubicBezTo>
                <a:cubicBezTo>
                  <a:pt x="23902" y="7243"/>
                  <a:pt x="23867" y="7574"/>
                  <a:pt x="24061" y="7640"/>
                </a:cubicBezTo>
                <a:cubicBezTo>
                  <a:pt x="24235" y="7640"/>
                  <a:pt x="24293" y="7639"/>
                  <a:pt x="24358" y="7516"/>
                </a:cubicBezTo>
              </a:path>
              <a:path w="2457" h="1737">
                <a:moveTo>
                  <a:pt x="24160" y="6623"/>
                </a:moveTo>
                <a:cubicBezTo>
                  <a:pt x="24483" y="6926"/>
                  <a:pt x="24875" y="7421"/>
                  <a:pt x="24482" y="7863"/>
                </a:cubicBezTo>
                <a:cubicBezTo>
                  <a:pt x="24312" y="7969"/>
                  <a:pt x="24277" y="7998"/>
                  <a:pt x="24160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  <p:sndAc>
      <p:stSnd>
        <p:snd r:embed="rId2" name="drumroll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60960" y="29376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omplementary and Supplementary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57200" y="1143000"/>
            <a:ext cx="8229600" cy="2362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527120" y="3938760"/>
            <a:ext cx="1009800" cy="392040"/>
          </a:xfrm>
          <a:custGeom>
            <a:avLst/>
            <a:gdLst/>
            <a:ahLst/>
            <a:rect l="l" t="t" r="r" b="b"/>
            <a:pathLst>
              <a:path w="2804" h="1092">
                <a:moveTo>
                  <a:pt x="4341" y="11013"/>
                </a:moveTo>
                <a:cubicBezTo>
                  <a:pt x="4287" y="11246"/>
                  <a:pt x="4287" y="11538"/>
                  <a:pt x="4266" y="11782"/>
                </a:cubicBezTo>
                <a:cubicBezTo>
                  <a:pt x="4266" y="11823"/>
                  <a:pt x="4266" y="11865"/>
                  <a:pt x="4266" y="11906"/>
                </a:cubicBezTo>
                <a:cubicBezTo>
                  <a:pt x="4225" y="11842"/>
                  <a:pt x="4316" y="11311"/>
                  <a:pt x="4415" y="11162"/>
                </a:cubicBezTo>
                <a:cubicBezTo>
                  <a:pt x="4700" y="10733"/>
                  <a:pt x="4906" y="11418"/>
                  <a:pt x="4936" y="11609"/>
                </a:cubicBezTo>
                <a:cubicBezTo>
                  <a:pt x="4936" y="11642"/>
                  <a:pt x="4936" y="11675"/>
                  <a:pt x="4936" y="11708"/>
                </a:cubicBezTo>
                <a:cubicBezTo>
                  <a:pt x="4928" y="11700"/>
                  <a:pt x="4919" y="11691"/>
                  <a:pt x="4911" y="11683"/>
                </a:cubicBezTo>
                <a:cubicBezTo>
                  <a:pt x="4941" y="11581"/>
                  <a:pt x="5150" y="10854"/>
                  <a:pt x="5383" y="11212"/>
                </a:cubicBezTo>
                <a:cubicBezTo>
                  <a:pt x="5525" y="11430"/>
                  <a:pt x="5451" y="11705"/>
                  <a:pt x="5407" y="11931"/>
                </a:cubicBezTo>
              </a:path>
              <a:path w="2804" h="1092">
                <a:moveTo>
                  <a:pt x="6251" y="10939"/>
                </a:moveTo>
                <a:cubicBezTo>
                  <a:pt x="6100" y="11255"/>
                  <a:pt x="5947" y="11471"/>
                  <a:pt x="5730" y="11733"/>
                </a:cubicBezTo>
                <a:cubicBezTo>
                  <a:pt x="5993" y="11721"/>
                  <a:pt x="6216" y="11712"/>
                  <a:pt x="6474" y="11782"/>
                </a:cubicBezTo>
                <a:cubicBezTo>
                  <a:pt x="6515" y="11802"/>
                  <a:pt x="6531" y="11800"/>
                  <a:pt x="6524" y="11832"/>
                </a:cubicBezTo>
              </a:path>
              <a:path w="2804" h="1092">
                <a:moveTo>
                  <a:pt x="6945" y="11013"/>
                </a:moveTo>
                <a:cubicBezTo>
                  <a:pt x="6945" y="11263"/>
                  <a:pt x="6814" y="12084"/>
                  <a:pt x="7045" y="119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5880" y="3875040"/>
            <a:ext cx="2125440" cy="411120"/>
          </a:xfrm>
          <a:custGeom>
            <a:avLst/>
            <a:gdLst/>
            <a:ahLst/>
            <a:rect l="l" t="t" r="r" b="b"/>
            <a:pathLst>
              <a:path w="5904" h="1142">
                <a:moveTo>
                  <a:pt x="8830" y="11112"/>
                </a:moveTo>
                <a:cubicBezTo>
                  <a:pt x="8830" y="11243"/>
                  <a:pt x="8919" y="11826"/>
                  <a:pt x="8806" y="11906"/>
                </a:cubicBezTo>
                <a:cubicBezTo>
                  <a:pt x="8806" y="11881"/>
                  <a:pt x="8806" y="11857"/>
                  <a:pt x="8806" y="11832"/>
                </a:cubicBezTo>
              </a:path>
              <a:path w="5904" h="1142">
                <a:moveTo>
                  <a:pt x="8682" y="11534"/>
                </a:moveTo>
                <a:cubicBezTo>
                  <a:pt x="8939" y="11497"/>
                  <a:pt x="9194" y="11466"/>
                  <a:pt x="9451" y="11435"/>
                </a:cubicBezTo>
              </a:path>
              <a:path w="5904" h="1142">
                <a:moveTo>
                  <a:pt x="9823" y="11385"/>
                </a:moveTo>
                <a:cubicBezTo>
                  <a:pt x="9823" y="11517"/>
                  <a:pt x="9823" y="11650"/>
                  <a:pt x="9823" y="11782"/>
                </a:cubicBezTo>
                <a:cubicBezTo>
                  <a:pt x="9847" y="11576"/>
                  <a:pt x="9905" y="11191"/>
                  <a:pt x="10195" y="11187"/>
                </a:cubicBezTo>
                <a:cubicBezTo>
                  <a:pt x="10526" y="11182"/>
                  <a:pt x="10492" y="11523"/>
                  <a:pt x="10517" y="11733"/>
                </a:cubicBezTo>
                <a:cubicBezTo>
                  <a:pt x="10306" y="11815"/>
                  <a:pt x="10555" y="11303"/>
                  <a:pt x="10567" y="11286"/>
                </a:cubicBezTo>
                <a:cubicBezTo>
                  <a:pt x="10860" y="10870"/>
                  <a:pt x="11105" y="11258"/>
                  <a:pt x="11137" y="11584"/>
                </a:cubicBezTo>
                <a:cubicBezTo>
                  <a:pt x="11119" y="11691"/>
                  <a:pt x="11111" y="11699"/>
                  <a:pt x="11112" y="11757"/>
                </a:cubicBezTo>
              </a:path>
              <a:path w="5904" h="1142">
                <a:moveTo>
                  <a:pt x="12055" y="10765"/>
                </a:moveTo>
                <a:cubicBezTo>
                  <a:pt x="11851" y="11081"/>
                  <a:pt x="11643" y="11395"/>
                  <a:pt x="11435" y="11708"/>
                </a:cubicBezTo>
                <a:cubicBezTo>
                  <a:pt x="11729" y="11695"/>
                  <a:pt x="12009" y="11689"/>
                  <a:pt x="12303" y="11708"/>
                </a:cubicBezTo>
                <a:cubicBezTo>
                  <a:pt x="12320" y="11708"/>
                  <a:pt x="12336" y="11708"/>
                  <a:pt x="12353" y="11708"/>
                </a:cubicBezTo>
              </a:path>
              <a:path w="5904" h="1142">
                <a:moveTo>
                  <a:pt x="12626" y="10840"/>
                </a:moveTo>
                <a:cubicBezTo>
                  <a:pt x="12825" y="10739"/>
                  <a:pt x="13146" y="10701"/>
                  <a:pt x="13271" y="10964"/>
                </a:cubicBezTo>
                <a:cubicBezTo>
                  <a:pt x="13473" y="11389"/>
                  <a:pt x="13006" y="11730"/>
                  <a:pt x="12626" y="11658"/>
                </a:cubicBezTo>
                <a:cubicBezTo>
                  <a:pt x="12618" y="11633"/>
                  <a:pt x="12609" y="11609"/>
                  <a:pt x="12601" y="11584"/>
                </a:cubicBezTo>
                <a:cubicBezTo>
                  <a:pt x="12857" y="11475"/>
                  <a:pt x="13053" y="11427"/>
                  <a:pt x="13295" y="11633"/>
                </a:cubicBezTo>
                <a:cubicBezTo>
                  <a:pt x="13295" y="11641"/>
                  <a:pt x="13295" y="11650"/>
                  <a:pt x="13295" y="11658"/>
                </a:cubicBezTo>
              </a:path>
              <a:path w="5904" h="1142">
                <a:moveTo>
                  <a:pt x="13816" y="11038"/>
                </a:moveTo>
                <a:cubicBezTo>
                  <a:pt x="13950" y="11024"/>
                  <a:pt x="14492" y="10920"/>
                  <a:pt x="14585" y="11013"/>
                </a:cubicBezTo>
                <a:cubicBezTo>
                  <a:pt x="14569" y="11038"/>
                  <a:pt x="14552" y="11063"/>
                  <a:pt x="14536" y="11088"/>
                </a:cubicBezTo>
              </a:path>
              <a:path w="5904" h="1142">
                <a:moveTo>
                  <a:pt x="13841" y="11336"/>
                </a:moveTo>
                <a:cubicBezTo>
                  <a:pt x="14088" y="11359"/>
                  <a:pt x="14336" y="11372"/>
                  <a:pt x="14585" y="113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89720" y="3919680"/>
            <a:ext cx="27000" cy="268200"/>
          </a:xfrm>
          <a:custGeom>
            <a:avLst/>
            <a:gdLst/>
            <a:ahLst/>
            <a:rect l="l" t="t" r="r" b="b"/>
            <a:pathLst>
              <a:path w="75" h="745">
                <a:moveTo>
                  <a:pt x="15577" y="10889"/>
                </a:moveTo>
                <a:cubicBezTo>
                  <a:pt x="15577" y="11139"/>
                  <a:pt x="15293" y="11719"/>
                  <a:pt x="15528" y="11633"/>
                </a:cubicBezTo>
                <a:cubicBezTo>
                  <a:pt x="15553" y="11600"/>
                  <a:pt x="15577" y="11567"/>
                  <a:pt x="15602" y="115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23000" y="3741840"/>
            <a:ext cx="579240" cy="446040"/>
          </a:xfrm>
          <a:custGeom>
            <a:avLst/>
            <a:gdLst/>
            <a:ahLst/>
            <a:rect l="l" t="t" r="r" b="b"/>
            <a:pathLst>
              <a:path w="1613" h="1241">
                <a:moveTo>
                  <a:pt x="16594" y="10716"/>
                </a:moveTo>
                <a:cubicBezTo>
                  <a:pt x="16388" y="10765"/>
                  <a:pt x="16309" y="10783"/>
                  <a:pt x="16173" y="10939"/>
                </a:cubicBezTo>
                <a:cubicBezTo>
                  <a:pt x="16255" y="11043"/>
                  <a:pt x="16756" y="11476"/>
                  <a:pt x="16446" y="11584"/>
                </a:cubicBezTo>
                <a:cubicBezTo>
                  <a:pt x="16396" y="11576"/>
                  <a:pt x="16347" y="11567"/>
                  <a:pt x="16297" y="11559"/>
                </a:cubicBezTo>
                <a:cubicBezTo>
                  <a:pt x="16241" y="11212"/>
                  <a:pt x="16434" y="11129"/>
                  <a:pt x="16669" y="10864"/>
                </a:cubicBezTo>
                <a:cubicBezTo>
                  <a:pt x="16669" y="10840"/>
                  <a:pt x="16669" y="10832"/>
                  <a:pt x="16644" y="10840"/>
                </a:cubicBezTo>
              </a:path>
              <a:path w="1613" h="1241">
                <a:moveTo>
                  <a:pt x="17016" y="10765"/>
                </a:moveTo>
                <a:cubicBezTo>
                  <a:pt x="16825" y="11130"/>
                  <a:pt x="16658" y="11321"/>
                  <a:pt x="16942" y="11633"/>
                </a:cubicBezTo>
                <a:cubicBezTo>
                  <a:pt x="17255" y="11533"/>
                  <a:pt x="17548" y="11321"/>
                  <a:pt x="17289" y="10939"/>
                </a:cubicBezTo>
                <a:cubicBezTo>
                  <a:pt x="17128" y="10824"/>
                  <a:pt x="17084" y="10790"/>
                  <a:pt x="16966" y="10740"/>
                </a:cubicBezTo>
              </a:path>
              <a:path w="1613" h="1241">
                <a:moveTo>
                  <a:pt x="17661" y="10393"/>
                </a:moveTo>
                <a:cubicBezTo>
                  <a:pt x="17566" y="10488"/>
                  <a:pt x="17579" y="10511"/>
                  <a:pt x="17587" y="10641"/>
                </a:cubicBezTo>
                <a:cubicBezTo>
                  <a:pt x="17806" y="10658"/>
                  <a:pt x="17801" y="10564"/>
                  <a:pt x="17686" y="104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04960" y="4554360"/>
            <a:ext cx="635040" cy="285840"/>
          </a:xfrm>
          <a:custGeom>
            <a:avLst/>
            <a:gdLst/>
            <a:ahLst/>
            <a:rect l="l" t="t" r="r" b="b"/>
            <a:pathLst>
              <a:path w="1762" h="795">
                <a:moveTo>
                  <a:pt x="4738" y="12849"/>
                </a:moveTo>
                <a:cubicBezTo>
                  <a:pt x="4760" y="12826"/>
                  <a:pt x="4768" y="12821"/>
                  <a:pt x="4762" y="12799"/>
                </a:cubicBezTo>
                <a:cubicBezTo>
                  <a:pt x="4824" y="12820"/>
                  <a:pt x="4838" y="13232"/>
                  <a:pt x="4837" y="13295"/>
                </a:cubicBezTo>
                <a:cubicBezTo>
                  <a:pt x="4819" y="13403"/>
                  <a:pt x="4769" y="13452"/>
                  <a:pt x="4837" y="13444"/>
                </a:cubicBezTo>
              </a:path>
              <a:path w="1762" h="795">
                <a:moveTo>
                  <a:pt x="5035" y="12725"/>
                </a:moveTo>
                <a:cubicBezTo>
                  <a:pt x="5097" y="12704"/>
                  <a:pt x="5583" y="12546"/>
                  <a:pt x="5507" y="12799"/>
                </a:cubicBezTo>
                <a:cubicBezTo>
                  <a:pt x="5477" y="12898"/>
                  <a:pt x="5365" y="12886"/>
                  <a:pt x="5308" y="12973"/>
                </a:cubicBezTo>
                <a:cubicBezTo>
                  <a:pt x="5519" y="12911"/>
                  <a:pt x="5517" y="12942"/>
                  <a:pt x="5680" y="13072"/>
                </a:cubicBezTo>
                <a:cubicBezTo>
                  <a:pt x="5626" y="13181"/>
                  <a:pt x="5336" y="13643"/>
                  <a:pt x="5159" y="13345"/>
                </a:cubicBezTo>
                <a:cubicBezTo>
                  <a:pt x="5159" y="13295"/>
                  <a:pt x="5159" y="13246"/>
                  <a:pt x="5159" y="13196"/>
                </a:cubicBezTo>
              </a:path>
              <a:path w="1762" h="795">
                <a:moveTo>
                  <a:pt x="6077" y="12650"/>
                </a:moveTo>
                <a:cubicBezTo>
                  <a:pt x="5830" y="12884"/>
                  <a:pt x="5844" y="13008"/>
                  <a:pt x="6003" y="13295"/>
                </a:cubicBezTo>
                <a:cubicBezTo>
                  <a:pt x="6177" y="13262"/>
                  <a:pt x="6727" y="13085"/>
                  <a:pt x="6449" y="12774"/>
                </a:cubicBezTo>
                <a:cubicBezTo>
                  <a:pt x="6265" y="12682"/>
                  <a:pt x="6214" y="12651"/>
                  <a:pt x="6077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87760" y="4286160"/>
            <a:ext cx="2921040" cy="428760"/>
          </a:xfrm>
          <a:custGeom>
            <a:avLst/>
            <a:gdLst/>
            <a:ahLst/>
            <a:rect l="l" t="t" r="r" b="b"/>
            <a:pathLst>
              <a:path w="8112" h="1192">
                <a:moveTo>
                  <a:pt x="7838" y="12576"/>
                </a:moveTo>
                <a:cubicBezTo>
                  <a:pt x="7866" y="12752"/>
                  <a:pt x="7900" y="12922"/>
                  <a:pt x="7938" y="13097"/>
                </a:cubicBezTo>
              </a:path>
              <a:path w="8112" h="1192">
                <a:moveTo>
                  <a:pt x="7838" y="12799"/>
                </a:moveTo>
                <a:cubicBezTo>
                  <a:pt x="8128" y="12777"/>
                  <a:pt x="8203" y="12772"/>
                  <a:pt x="8384" y="12750"/>
                </a:cubicBezTo>
              </a:path>
              <a:path w="8112" h="1192">
                <a:moveTo>
                  <a:pt x="9203" y="13097"/>
                </a:moveTo>
                <a:cubicBezTo>
                  <a:pt x="9686" y="13005"/>
                  <a:pt x="10174" y="12999"/>
                  <a:pt x="10666" y="12973"/>
                </a:cubicBezTo>
                <a:cubicBezTo>
                  <a:pt x="10981" y="12957"/>
                  <a:pt x="11295" y="12933"/>
                  <a:pt x="11609" y="12923"/>
                </a:cubicBezTo>
              </a:path>
              <a:path w="8112" h="1192">
                <a:moveTo>
                  <a:pt x="7838" y="12700"/>
                </a:moveTo>
                <a:cubicBezTo>
                  <a:pt x="7740" y="12725"/>
                  <a:pt x="7618" y="12781"/>
                  <a:pt x="7516" y="12824"/>
                </a:cubicBezTo>
                <a:cubicBezTo>
                  <a:pt x="7499" y="12832"/>
                  <a:pt x="7483" y="12841"/>
                  <a:pt x="7466" y="12849"/>
                </a:cubicBezTo>
              </a:path>
              <a:path w="8112" h="1192">
                <a:moveTo>
                  <a:pt x="12452" y="12650"/>
                </a:moveTo>
                <a:cubicBezTo>
                  <a:pt x="12637" y="12596"/>
                  <a:pt x="12805" y="12564"/>
                  <a:pt x="12998" y="12551"/>
                </a:cubicBezTo>
              </a:path>
              <a:path w="8112" h="1192">
                <a:moveTo>
                  <a:pt x="12502" y="12849"/>
                </a:moveTo>
                <a:cubicBezTo>
                  <a:pt x="12799" y="12794"/>
                  <a:pt x="12914" y="12774"/>
                  <a:pt x="13122" y="12750"/>
                </a:cubicBezTo>
              </a:path>
              <a:path w="8112" h="1192">
                <a:moveTo>
                  <a:pt x="13593" y="12179"/>
                </a:moveTo>
                <a:cubicBezTo>
                  <a:pt x="13681" y="12457"/>
                  <a:pt x="13754" y="12707"/>
                  <a:pt x="13767" y="12998"/>
                </a:cubicBezTo>
              </a:path>
              <a:path w="8112" h="1192">
                <a:moveTo>
                  <a:pt x="14461" y="12129"/>
                </a:moveTo>
                <a:cubicBezTo>
                  <a:pt x="14059" y="12378"/>
                  <a:pt x="14045" y="12452"/>
                  <a:pt x="14461" y="12725"/>
                </a:cubicBezTo>
                <a:cubicBezTo>
                  <a:pt x="14544" y="12775"/>
                  <a:pt x="14626" y="12824"/>
                  <a:pt x="14709" y="12874"/>
                </a:cubicBezTo>
                <a:cubicBezTo>
                  <a:pt x="14709" y="12984"/>
                  <a:pt x="14698" y="13022"/>
                  <a:pt x="14585" y="13022"/>
                </a:cubicBezTo>
                <a:cubicBezTo>
                  <a:pt x="14168" y="12838"/>
                  <a:pt x="14367" y="12699"/>
                  <a:pt x="14610" y="12378"/>
                </a:cubicBezTo>
                <a:cubicBezTo>
                  <a:pt x="14635" y="12345"/>
                  <a:pt x="14659" y="12311"/>
                  <a:pt x="14684" y="12278"/>
                </a:cubicBezTo>
              </a:path>
              <a:path w="8112" h="1192">
                <a:moveTo>
                  <a:pt x="15106" y="12154"/>
                </a:moveTo>
                <a:cubicBezTo>
                  <a:pt x="14961" y="12437"/>
                  <a:pt x="14838" y="12634"/>
                  <a:pt x="14982" y="12923"/>
                </a:cubicBezTo>
                <a:cubicBezTo>
                  <a:pt x="15229" y="12827"/>
                  <a:pt x="15570" y="12659"/>
                  <a:pt x="15329" y="12328"/>
                </a:cubicBezTo>
                <a:cubicBezTo>
                  <a:pt x="15159" y="12200"/>
                  <a:pt x="15122" y="12168"/>
                  <a:pt x="15007" y="12105"/>
                </a:cubicBezTo>
              </a:path>
              <a:path w="8112" h="1192">
                <a:moveTo>
                  <a:pt x="15503" y="11906"/>
                </a:moveTo>
                <a:cubicBezTo>
                  <a:pt x="15440" y="11982"/>
                  <a:pt x="15320" y="12117"/>
                  <a:pt x="15528" y="12080"/>
                </a:cubicBezTo>
                <a:cubicBezTo>
                  <a:pt x="15723" y="12046"/>
                  <a:pt x="15468" y="11916"/>
                  <a:pt x="15453" y="119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77040" y="3741840"/>
            <a:ext cx="1260360" cy="1197000"/>
          </a:xfrm>
          <a:custGeom>
            <a:avLst/>
            <a:gdLst/>
            <a:ahLst/>
            <a:rect l="l" t="t" r="r" b="b"/>
            <a:pathLst>
              <a:path w="3498" h="3325">
                <a:moveTo>
                  <a:pt x="21233" y="10492"/>
                </a:moveTo>
                <a:cubicBezTo>
                  <a:pt x="21334" y="10861"/>
                  <a:pt x="21216" y="11106"/>
                  <a:pt x="21233" y="11460"/>
                </a:cubicBezTo>
                <a:cubicBezTo>
                  <a:pt x="21249" y="11460"/>
                  <a:pt x="21266" y="11460"/>
                  <a:pt x="21282" y="11460"/>
                </a:cubicBezTo>
              </a:path>
              <a:path w="3498" h="3325">
                <a:moveTo>
                  <a:pt x="22175" y="10393"/>
                </a:moveTo>
                <a:cubicBezTo>
                  <a:pt x="21792" y="10790"/>
                  <a:pt x="21919" y="10725"/>
                  <a:pt x="22151" y="11162"/>
                </a:cubicBezTo>
                <a:cubicBezTo>
                  <a:pt x="22200" y="11312"/>
                  <a:pt x="22216" y="11362"/>
                  <a:pt x="22076" y="11410"/>
                </a:cubicBezTo>
                <a:cubicBezTo>
                  <a:pt x="21785" y="11156"/>
                  <a:pt x="22029" y="10936"/>
                  <a:pt x="22250" y="10666"/>
                </a:cubicBezTo>
                <a:cubicBezTo>
                  <a:pt x="22258" y="10658"/>
                  <a:pt x="22267" y="10649"/>
                  <a:pt x="22275" y="10641"/>
                </a:cubicBezTo>
              </a:path>
              <a:path w="3498" h="3325">
                <a:moveTo>
                  <a:pt x="22796" y="10542"/>
                </a:moveTo>
                <a:cubicBezTo>
                  <a:pt x="22631" y="10848"/>
                  <a:pt x="22595" y="10943"/>
                  <a:pt x="22622" y="11286"/>
                </a:cubicBezTo>
                <a:cubicBezTo>
                  <a:pt x="22940" y="11308"/>
                  <a:pt x="23308" y="11160"/>
                  <a:pt x="23192" y="10716"/>
                </a:cubicBezTo>
                <a:cubicBezTo>
                  <a:pt x="23104" y="10379"/>
                  <a:pt x="22782" y="10557"/>
                  <a:pt x="22597" y="10616"/>
                </a:cubicBezTo>
              </a:path>
              <a:path w="3498" h="3325">
                <a:moveTo>
                  <a:pt x="20216" y="11906"/>
                </a:moveTo>
                <a:cubicBezTo>
                  <a:pt x="20455" y="11879"/>
                  <a:pt x="20546" y="11869"/>
                  <a:pt x="20712" y="11857"/>
                </a:cubicBezTo>
              </a:path>
              <a:path w="3498" h="3325">
                <a:moveTo>
                  <a:pt x="21605" y="11956"/>
                </a:moveTo>
                <a:cubicBezTo>
                  <a:pt x="21677" y="12123"/>
                  <a:pt x="21744" y="12292"/>
                  <a:pt x="21828" y="12452"/>
                </a:cubicBezTo>
              </a:path>
              <a:path w="3498" h="3325">
                <a:moveTo>
                  <a:pt x="21952" y="11708"/>
                </a:moveTo>
                <a:cubicBezTo>
                  <a:pt x="22052" y="11716"/>
                  <a:pt x="22729" y="11750"/>
                  <a:pt x="22473" y="11931"/>
                </a:cubicBezTo>
                <a:cubicBezTo>
                  <a:pt x="22349" y="11973"/>
                  <a:pt x="22325" y="11981"/>
                  <a:pt x="22250" y="12005"/>
                </a:cubicBezTo>
                <a:cubicBezTo>
                  <a:pt x="22467" y="12018"/>
                  <a:pt x="22508" y="12050"/>
                  <a:pt x="22696" y="12154"/>
                </a:cubicBezTo>
                <a:cubicBezTo>
                  <a:pt x="22514" y="12435"/>
                  <a:pt x="22347" y="12539"/>
                  <a:pt x="22126" y="12303"/>
                </a:cubicBezTo>
              </a:path>
              <a:path w="3498" h="3325">
                <a:moveTo>
                  <a:pt x="22845" y="11857"/>
                </a:moveTo>
                <a:cubicBezTo>
                  <a:pt x="22801" y="12147"/>
                  <a:pt x="22826" y="12683"/>
                  <a:pt x="23316" y="12378"/>
                </a:cubicBezTo>
                <a:cubicBezTo>
                  <a:pt x="23837" y="12055"/>
                  <a:pt x="23175" y="11824"/>
                  <a:pt x="22944" y="11807"/>
                </a:cubicBezTo>
              </a:path>
              <a:path w="3498" h="3325">
                <a:moveTo>
                  <a:pt x="20960" y="12774"/>
                </a:moveTo>
                <a:cubicBezTo>
                  <a:pt x="21629" y="12681"/>
                  <a:pt x="22293" y="12650"/>
                  <a:pt x="22969" y="12675"/>
                </a:cubicBezTo>
                <a:cubicBezTo>
                  <a:pt x="23168" y="12695"/>
                  <a:pt x="23298" y="12691"/>
                  <a:pt x="23118" y="12725"/>
                </a:cubicBezTo>
              </a:path>
              <a:path w="3498" h="3325">
                <a:moveTo>
                  <a:pt x="22448" y="12849"/>
                </a:moveTo>
                <a:cubicBezTo>
                  <a:pt x="22345" y="12871"/>
                  <a:pt x="22213" y="12892"/>
                  <a:pt x="22151" y="12948"/>
                </a:cubicBezTo>
                <a:cubicBezTo>
                  <a:pt x="22101" y="12993"/>
                  <a:pt x="22112" y="13169"/>
                  <a:pt x="22101" y="13246"/>
                </a:cubicBezTo>
                <a:cubicBezTo>
                  <a:pt x="22306" y="13205"/>
                  <a:pt x="22582" y="13078"/>
                  <a:pt x="22796" y="13221"/>
                </a:cubicBezTo>
                <a:cubicBezTo>
                  <a:pt x="23141" y="13451"/>
                  <a:pt x="22403" y="13714"/>
                  <a:pt x="22275" y="13717"/>
                </a:cubicBezTo>
                <a:cubicBezTo>
                  <a:pt x="22225" y="13700"/>
                  <a:pt x="22176" y="13684"/>
                  <a:pt x="22126" y="13667"/>
                </a:cubicBezTo>
              </a:path>
              <a:path w="3498" h="3325">
                <a:moveTo>
                  <a:pt x="23068" y="12923"/>
                </a:moveTo>
                <a:cubicBezTo>
                  <a:pt x="22919" y="13167"/>
                  <a:pt x="22878" y="13264"/>
                  <a:pt x="22870" y="13543"/>
                </a:cubicBezTo>
                <a:cubicBezTo>
                  <a:pt x="23100" y="13630"/>
                  <a:pt x="23570" y="13566"/>
                  <a:pt x="23465" y="13146"/>
                </a:cubicBezTo>
                <a:cubicBezTo>
                  <a:pt x="23414" y="12941"/>
                  <a:pt x="23207" y="12956"/>
                  <a:pt x="23068" y="12898"/>
                </a:cubicBezTo>
              </a:path>
              <a:path w="3498" h="3325">
                <a:moveTo>
                  <a:pt x="23639" y="12675"/>
                </a:moveTo>
                <a:cubicBezTo>
                  <a:pt x="23614" y="12725"/>
                  <a:pt x="23606" y="12741"/>
                  <a:pt x="23639" y="12774"/>
                </a:cubicBezTo>
                <a:cubicBezTo>
                  <a:pt x="23700" y="12731"/>
                  <a:pt x="23714" y="12740"/>
                  <a:pt x="23688" y="126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65160" y="2170080"/>
            <a:ext cx="1017720" cy="36720"/>
          </a:xfrm>
          <a:custGeom>
            <a:avLst/>
            <a:gdLst/>
            <a:ahLst/>
            <a:rect l="l" t="t" r="r" b="b"/>
            <a:pathLst>
              <a:path w="2829" h="100">
                <a:moveTo>
                  <a:pt x="2679" y="6102"/>
                </a:moveTo>
                <a:cubicBezTo>
                  <a:pt x="2712" y="6097"/>
                  <a:pt x="2720" y="6081"/>
                  <a:pt x="2753" y="6077"/>
                </a:cubicBezTo>
                <a:cubicBezTo>
                  <a:pt x="2900" y="6059"/>
                  <a:pt x="3055" y="6068"/>
                  <a:pt x="3200" y="6052"/>
                </a:cubicBezTo>
                <a:cubicBezTo>
                  <a:pt x="3268" y="6045"/>
                  <a:pt x="3331" y="6031"/>
                  <a:pt x="3398" y="6028"/>
                </a:cubicBezTo>
                <a:cubicBezTo>
                  <a:pt x="3470" y="6024"/>
                  <a:pt x="3540" y="6046"/>
                  <a:pt x="3597" y="6052"/>
                </a:cubicBezTo>
                <a:cubicBezTo>
                  <a:pt x="3680" y="6061"/>
                  <a:pt x="3761" y="6074"/>
                  <a:pt x="3845" y="6077"/>
                </a:cubicBezTo>
                <a:cubicBezTo>
                  <a:pt x="3965" y="6081"/>
                  <a:pt x="4075" y="6092"/>
                  <a:pt x="4192" y="6102"/>
                </a:cubicBezTo>
                <a:cubicBezTo>
                  <a:pt x="4339" y="6115"/>
                  <a:pt x="4491" y="6124"/>
                  <a:pt x="4638" y="6127"/>
                </a:cubicBezTo>
                <a:cubicBezTo>
                  <a:pt x="4808" y="6131"/>
                  <a:pt x="4968" y="6115"/>
                  <a:pt x="5135" y="6102"/>
                </a:cubicBezTo>
                <a:cubicBezTo>
                  <a:pt x="5257" y="6093"/>
                  <a:pt x="5384" y="6102"/>
                  <a:pt x="5507" y="61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86040" y="2438280"/>
            <a:ext cx="241200" cy="241560"/>
          </a:xfrm>
          <a:custGeom>
            <a:avLst/>
            <a:gdLst/>
            <a:ahLst/>
            <a:rect l="l" t="t" r="r" b="b"/>
            <a:pathLst>
              <a:path w="671" h="670">
                <a:moveTo>
                  <a:pt x="8235" y="7069"/>
                </a:moveTo>
                <a:cubicBezTo>
                  <a:pt x="8191" y="7012"/>
                  <a:pt x="8030" y="6817"/>
                  <a:pt x="7938" y="6921"/>
                </a:cubicBezTo>
                <a:cubicBezTo>
                  <a:pt x="7808" y="7068"/>
                  <a:pt x="7980" y="7527"/>
                  <a:pt x="8210" y="7441"/>
                </a:cubicBezTo>
                <a:cubicBezTo>
                  <a:pt x="8604" y="7293"/>
                  <a:pt x="8316" y="6933"/>
                  <a:pt x="8161" y="6772"/>
                </a:cubicBezTo>
                <a:cubicBezTo>
                  <a:pt x="7887" y="6808"/>
                  <a:pt x="7561" y="6979"/>
                  <a:pt x="7863" y="7317"/>
                </a:cubicBezTo>
                <a:cubicBezTo>
                  <a:pt x="8055" y="7414"/>
                  <a:pt x="8114" y="7448"/>
                  <a:pt x="8260" y="7392"/>
                </a:cubicBezTo>
                <a:cubicBezTo>
                  <a:pt x="8382" y="7147"/>
                  <a:pt x="8409" y="6846"/>
                  <a:pt x="7987" y="6871"/>
                </a:cubicBezTo>
                <a:cubicBezTo>
                  <a:pt x="7696" y="6888"/>
                  <a:pt x="7687" y="7432"/>
                  <a:pt x="7938" y="7417"/>
                </a:cubicBezTo>
                <a:cubicBezTo>
                  <a:pt x="8243" y="7399"/>
                  <a:pt x="8290" y="6824"/>
                  <a:pt x="7962" y="6796"/>
                </a:cubicBezTo>
                <a:cubicBezTo>
                  <a:pt x="7609" y="6766"/>
                  <a:pt x="7788" y="7224"/>
                  <a:pt x="7813" y="7367"/>
                </a:cubicBezTo>
                <a:cubicBezTo>
                  <a:pt x="8007" y="7375"/>
                  <a:pt x="8372" y="7185"/>
                  <a:pt x="8086" y="6921"/>
                </a:cubicBezTo>
                <a:cubicBezTo>
                  <a:pt x="7847" y="6701"/>
                  <a:pt x="7725" y="7322"/>
                  <a:pt x="7962" y="7342"/>
                </a:cubicBezTo>
                <a:cubicBezTo>
                  <a:pt x="8206" y="7363"/>
                  <a:pt x="8176" y="6865"/>
                  <a:pt x="7938" y="6921"/>
                </a:cubicBezTo>
                <a:cubicBezTo>
                  <a:pt x="7736" y="6969"/>
                  <a:pt x="7831" y="7440"/>
                  <a:pt x="8037" y="7144"/>
                </a:cubicBezTo>
                <a:cubicBezTo>
                  <a:pt x="8053" y="7094"/>
                  <a:pt x="8070" y="7045"/>
                  <a:pt x="8086" y="6995"/>
                </a:cubicBezTo>
                <a:cubicBezTo>
                  <a:pt x="8002" y="6739"/>
                  <a:pt x="7999" y="7070"/>
                  <a:pt x="8037" y="7144"/>
                </a:cubicBezTo>
                <a:cubicBezTo>
                  <a:pt x="8102" y="7269"/>
                  <a:pt x="8179" y="6891"/>
                  <a:pt x="8086" y="6921"/>
                </a:cubicBezTo>
                <a:cubicBezTo>
                  <a:pt x="8046" y="6934"/>
                  <a:pt x="8143" y="7091"/>
                  <a:pt x="8161" y="71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60960" y="29376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omplementary and Supplementary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00656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angles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lement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pplement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ith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2920" y="36576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6400" y="4272120"/>
            <a:ext cx="22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5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800" y="4843440"/>
            <a:ext cx="26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0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265200" y="4295880"/>
            <a:ext cx="5539320" cy="459720"/>
            <a:chOff x="3265200" y="4295880"/>
            <a:chExt cx="5539320" cy="459720"/>
          </a:xfrm>
        </p:grpSpPr>
        <p:sp>
          <p:nvSpPr>
            <p:cNvPr id="127" name=""/>
            <p:cNvSpPr/>
            <p:nvPr/>
          </p:nvSpPr>
          <p:spPr>
            <a:xfrm>
              <a:off x="3265200" y="4295880"/>
              <a:ext cx="553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,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e complementar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5"/>
            <a:stretch/>
          </p:blipFill>
          <p:spPr>
            <a:xfrm>
              <a:off x="3846600" y="4343400"/>
              <a:ext cx="33156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6"/>
            <a:stretch/>
          </p:blipFill>
          <p:spPr>
            <a:xfrm>
              <a:off x="5105520" y="4343400"/>
              <a:ext cx="331560" cy="33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"/>
          <p:cNvGrpSpPr/>
          <p:nvPr/>
        </p:nvGrpSpPr>
        <p:grpSpPr>
          <a:xfrm>
            <a:off x="3353040" y="4848120"/>
            <a:ext cx="3926520" cy="825480"/>
            <a:chOff x="3353040" y="4848120"/>
            <a:chExt cx="3926520" cy="825480"/>
          </a:xfrm>
        </p:grpSpPr>
        <p:sp>
          <p:nvSpPr>
            <p:cNvPr id="131" name=""/>
            <p:cNvSpPr/>
            <p:nvPr/>
          </p:nvSpPr>
          <p:spPr>
            <a:xfrm>
              <a:off x="3353040" y="4848120"/>
              <a:ext cx="392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,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DE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DF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pplementar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7"/>
            <a:stretch/>
          </p:blipFill>
          <p:spPr>
            <a:xfrm>
              <a:off x="3935520" y="4876920"/>
              <a:ext cx="33156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8"/>
            <a:stretch/>
          </p:blipFill>
          <p:spPr>
            <a:xfrm>
              <a:off x="5562720" y="4900680"/>
              <a:ext cx="331560" cy="3315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34" name=""/>
          <p:cNvGraphicFramePr/>
          <p:nvPr/>
        </p:nvGraphicFramePr>
        <p:xfrm>
          <a:off x="533520" y="1752480"/>
          <a:ext cx="2867040" cy="1762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1752480"/>
                    <a:ext cx="286704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4572000" y="1790640"/>
            <a:ext cx="3386160" cy="1401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303720" y="2009880"/>
            <a:ext cx="750600" cy="1187280"/>
          </a:xfrm>
          <a:custGeom>
            <a:avLst/>
            <a:gdLst/>
            <a:ahLst/>
            <a:rect l="l" t="t" r="r" b="b"/>
            <a:pathLst>
              <a:path w="2084" h="3300">
                <a:moveTo>
                  <a:pt x="9203" y="5829"/>
                </a:moveTo>
                <a:cubicBezTo>
                  <a:pt x="9299" y="5758"/>
                  <a:pt x="9328" y="5735"/>
                  <a:pt x="9401" y="5705"/>
                </a:cubicBezTo>
                <a:cubicBezTo>
                  <a:pt x="9474" y="5850"/>
                  <a:pt x="9447" y="5924"/>
                  <a:pt x="9376" y="6077"/>
                </a:cubicBezTo>
                <a:cubicBezTo>
                  <a:pt x="9528" y="6077"/>
                  <a:pt x="9687" y="6106"/>
                  <a:pt x="9575" y="6325"/>
                </a:cubicBezTo>
                <a:cubicBezTo>
                  <a:pt x="9470" y="6532"/>
                  <a:pt x="9327" y="6496"/>
                  <a:pt x="9178" y="6449"/>
                </a:cubicBezTo>
              </a:path>
              <a:path w="2084" h="3300">
                <a:moveTo>
                  <a:pt x="9699" y="5581"/>
                </a:moveTo>
                <a:cubicBezTo>
                  <a:pt x="9954" y="5609"/>
                  <a:pt x="10226" y="5703"/>
                  <a:pt x="10120" y="6052"/>
                </a:cubicBezTo>
                <a:cubicBezTo>
                  <a:pt x="10063" y="6238"/>
                  <a:pt x="9943" y="6283"/>
                  <a:pt x="9823" y="6251"/>
                </a:cubicBezTo>
                <a:cubicBezTo>
                  <a:pt x="9882" y="6016"/>
                  <a:pt x="10002" y="5898"/>
                  <a:pt x="10220" y="6102"/>
                </a:cubicBezTo>
                <a:cubicBezTo>
                  <a:pt x="10245" y="6135"/>
                  <a:pt x="10269" y="6168"/>
                  <a:pt x="10294" y="6201"/>
                </a:cubicBezTo>
              </a:path>
              <a:path w="2084" h="3300">
                <a:moveTo>
                  <a:pt x="9575" y="6747"/>
                </a:moveTo>
                <a:cubicBezTo>
                  <a:pt x="9523" y="6747"/>
                  <a:pt x="9512" y="6758"/>
                  <a:pt x="9475" y="6796"/>
                </a:cubicBezTo>
                <a:cubicBezTo>
                  <a:pt x="9451" y="6820"/>
                  <a:pt x="9409" y="6887"/>
                  <a:pt x="9401" y="6921"/>
                </a:cubicBezTo>
                <a:cubicBezTo>
                  <a:pt x="9391" y="6963"/>
                  <a:pt x="9386" y="6982"/>
                  <a:pt x="9376" y="7020"/>
                </a:cubicBezTo>
                <a:cubicBezTo>
                  <a:pt x="9464" y="7004"/>
                  <a:pt x="9694" y="6862"/>
                  <a:pt x="9723" y="7020"/>
                </a:cubicBezTo>
                <a:cubicBezTo>
                  <a:pt x="9755" y="7196"/>
                  <a:pt x="9450" y="7336"/>
                  <a:pt x="9327" y="7218"/>
                </a:cubicBezTo>
                <a:cubicBezTo>
                  <a:pt x="9319" y="7185"/>
                  <a:pt x="9310" y="7152"/>
                  <a:pt x="9302" y="7119"/>
                </a:cubicBezTo>
              </a:path>
              <a:path w="2084" h="3300">
                <a:moveTo>
                  <a:pt x="9872" y="6722"/>
                </a:moveTo>
                <a:cubicBezTo>
                  <a:pt x="9842" y="6892"/>
                  <a:pt x="10085" y="6893"/>
                  <a:pt x="10269" y="6970"/>
                </a:cubicBezTo>
                <a:cubicBezTo>
                  <a:pt x="10148" y="7078"/>
                  <a:pt x="10110" y="7051"/>
                  <a:pt x="9947" y="7045"/>
                </a:cubicBezTo>
                <a:cubicBezTo>
                  <a:pt x="9951" y="6957"/>
                  <a:pt x="10094" y="6633"/>
                  <a:pt x="10021" y="6623"/>
                </a:cubicBezTo>
                <a:cubicBezTo>
                  <a:pt x="10004" y="6631"/>
                  <a:pt x="9988" y="6640"/>
                  <a:pt x="9971" y="6648"/>
                </a:cubicBezTo>
              </a:path>
              <a:path w="2084" h="3300">
                <a:moveTo>
                  <a:pt x="9178" y="7590"/>
                </a:moveTo>
                <a:cubicBezTo>
                  <a:pt x="9621" y="7431"/>
                  <a:pt x="10051" y="7267"/>
                  <a:pt x="10517" y="7193"/>
                </a:cubicBezTo>
              </a:path>
              <a:path w="2084" h="3300">
                <a:moveTo>
                  <a:pt x="9823" y="7764"/>
                </a:moveTo>
                <a:cubicBezTo>
                  <a:pt x="9810" y="7677"/>
                  <a:pt x="9794" y="7656"/>
                  <a:pt x="9748" y="7590"/>
                </a:cubicBezTo>
                <a:cubicBezTo>
                  <a:pt x="9713" y="7630"/>
                  <a:pt x="9394" y="8166"/>
                  <a:pt x="9624" y="8086"/>
                </a:cubicBezTo>
                <a:cubicBezTo>
                  <a:pt x="9752" y="8042"/>
                  <a:pt x="9783" y="7846"/>
                  <a:pt x="9823" y="7739"/>
                </a:cubicBezTo>
                <a:cubicBezTo>
                  <a:pt x="9823" y="8005"/>
                  <a:pt x="9839" y="8268"/>
                  <a:pt x="9847" y="8533"/>
                </a:cubicBezTo>
              </a:path>
              <a:path w="2084" h="3300">
                <a:moveTo>
                  <a:pt x="10170" y="7739"/>
                </a:moveTo>
                <a:cubicBezTo>
                  <a:pt x="10131" y="7973"/>
                  <a:pt x="10095" y="8062"/>
                  <a:pt x="10195" y="8260"/>
                </a:cubicBezTo>
                <a:cubicBezTo>
                  <a:pt x="10353" y="8177"/>
                  <a:pt x="10609" y="7899"/>
                  <a:pt x="10319" y="7739"/>
                </a:cubicBezTo>
                <a:cubicBezTo>
                  <a:pt x="10187" y="7720"/>
                  <a:pt x="10171" y="7712"/>
                  <a:pt x="10096" y="7714"/>
                </a:cubicBezTo>
              </a:path>
              <a:path w="2084" h="3300">
                <a:moveTo>
                  <a:pt x="10492" y="7466"/>
                </a:moveTo>
                <a:cubicBezTo>
                  <a:pt x="10492" y="7491"/>
                  <a:pt x="10492" y="7516"/>
                  <a:pt x="10492" y="7541"/>
                </a:cubicBezTo>
                <a:cubicBezTo>
                  <a:pt x="10678" y="7490"/>
                  <a:pt x="10620" y="7424"/>
                  <a:pt x="10468" y="7367"/>
                </a:cubicBezTo>
              </a:path>
              <a:path w="2084" h="3300">
                <a:moveTo>
                  <a:pt x="10889" y="8334"/>
                </a:moveTo>
                <a:cubicBezTo>
                  <a:pt x="10927" y="8391"/>
                  <a:pt x="10922" y="8416"/>
                  <a:pt x="10964" y="8409"/>
                </a:cubicBezTo>
                <a:cubicBezTo>
                  <a:pt x="10938" y="8330"/>
                  <a:pt x="10815" y="8128"/>
                  <a:pt x="10740" y="8310"/>
                </a:cubicBezTo>
                <a:cubicBezTo>
                  <a:pt x="10603" y="8644"/>
                  <a:pt x="10704" y="9030"/>
                  <a:pt x="11112" y="8781"/>
                </a:cubicBezTo>
                <a:cubicBezTo>
                  <a:pt x="11162" y="8731"/>
                  <a:pt x="11211" y="8682"/>
                  <a:pt x="11261" y="86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06920" y="1357200"/>
            <a:ext cx="117360" cy="44640"/>
          </a:xfrm>
          <a:custGeom>
            <a:avLst/>
            <a:gdLst/>
            <a:ahLst/>
            <a:rect l="l" t="t" r="r" b="b"/>
            <a:pathLst>
              <a:path w="324" h="125">
                <a:moveTo>
                  <a:pt x="12799" y="3795"/>
                </a:moveTo>
                <a:cubicBezTo>
                  <a:pt x="12887" y="3820"/>
                  <a:pt x="13031" y="3750"/>
                  <a:pt x="13122" y="3770"/>
                </a:cubicBezTo>
                <a:cubicBezTo>
                  <a:pt x="13124" y="3770"/>
                  <a:pt x="12878" y="3892"/>
                  <a:pt x="12874" y="3894"/>
                </a:cubicBezTo>
                <a:cubicBezTo>
                  <a:pt x="12825" y="3847"/>
                  <a:pt x="12847" y="3827"/>
                  <a:pt x="12973" y="38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46960" y="1339920"/>
            <a:ext cx="1179360" cy="1473120"/>
          </a:xfrm>
          <a:custGeom>
            <a:avLst/>
            <a:gdLst/>
            <a:ahLst/>
            <a:rect l="l" t="t" r="r" b="b"/>
            <a:pathLst>
              <a:path w="3275" h="4093">
                <a:moveTo>
                  <a:pt x="21084" y="4068"/>
                </a:moveTo>
                <a:cubicBezTo>
                  <a:pt x="21097" y="4271"/>
                  <a:pt x="21109" y="4461"/>
                  <a:pt x="21109" y="4663"/>
                </a:cubicBezTo>
              </a:path>
              <a:path w="3275" h="4093">
                <a:moveTo>
                  <a:pt x="21357" y="3969"/>
                </a:moveTo>
                <a:cubicBezTo>
                  <a:pt x="21315" y="4251"/>
                  <a:pt x="21306" y="4394"/>
                  <a:pt x="21382" y="4663"/>
                </a:cubicBezTo>
                <a:cubicBezTo>
                  <a:pt x="21620" y="4629"/>
                  <a:pt x="21824" y="4444"/>
                  <a:pt x="21729" y="4142"/>
                </a:cubicBezTo>
                <a:cubicBezTo>
                  <a:pt x="21701" y="4052"/>
                  <a:pt x="21545" y="4047"/>
                  <a:pt x="21481" y="3994"/>
                </a:cubicBezTo>
              </a:path>
              <a:path w="3275" h="4093">
                <a:moveTo>
                  <a:pt x="21927" y="3721"/>
                </a:moveTo>
                <a:cubicBezTo>
                  <a:pt x="22017" y="4014"/>
                  <a:pt x="22077" y="4318"/>
                  <a:pt x="22151" y="4614"/>
                </a:cubicBezTo>
              </a:path>
              <a:path w="3275" h="4093">
                <a:moveTo>
                  <a:pt x="21431" y="5556"/>
                </a:moveTo>
                <a:cubicBezTo>
                  <a:pt x="21578" y="5447"/>
                  <a:pt x="21734" y="5386"/>
                  <a:pt x="21903" y="5308"/>
                </a:cubicBezTo>
                <a:cubicBezTo>
                  <a:pt x="21924" y="5496"/>
                  <a:pt x="21812" y="5985"/>
                  <a:pt x="21903" y="6127"/>
                </a:cubicBezTo>
                <a:cubicBezTo>
                  <a:pt x="21919" y="6102"/>
                  <a:pt x="21936" y="6077"/>
                  <a:pt x="21952" y="6052"/>
                </a:cubicBezTo>
              </a:path>
              <a:path w="3275" h="4093">
                <a:moveTo>
                  <a:pt x="22324" y="5457"/>
                </a:moveTo>
                <a:cubicBezTo>
                  <a:pt x="22324" y="5383"/>
                  <a:pt x="22311" y="5373"/>
                  <a:pt x="22275" y="5308"/>
                </a:cubicBezTo>
                <a:cubicBezTo>
                  <a:pt x="22141" y="5308"/>
                  <a:pt x="22047" y="5436"/>
                  <a:pt x="22051" y="5581"/>
                </a:cubicBezTo>
                <a:cubicBezTo>
                  <a:pt x="22068" y="5614"/>
                  <a:pt x="22084" y="5647"/>
                  <a:pt x="22101" y="5680"/>
                </a:cubicBezTo>
                <a:cubicBezTo>
                  <a:pt x="22299" y="5643"/>
                  <a:pt x="22314" y="5598"/>
                  <a:pt x="22349" y="5407"/>
                </a:cubicBezTo>
                <a:cubicBezTo>
                  <a:pt x="22349" y="5415"/>
                  <a:pt x="22349" y="5424"/>
                  <a:pt x="22349" y="5432"/>
                </a:cubicBezTo>
                <a:cubicBezTo>
                  <a:pt x="22391" y="5559"/>
                  <a:pt x="22535" y="5890"/>
                  <a:pt x="22498" y="6028"/>
                </a:cubicBezTo>
                <a:cubicBezTo>
                  <a:pt x="22473" y="6053"/>
                  <a:pt x="22448" y="6077"/>
                  <a:pt x="22423" y="6102"/>
                </a:cubicBezTo>
              </a:path>
              <a:path w="3275" h="4093">
                <a:moveTo>
                  <a:pt x="20687" y="6648"/>
                </a:moveTo>
                <a:cubicBezTo>
                  <a:pt x="21324" y="6455"/>
                  <a:pt x="21943" y="6316"/>
                  <a:pt x="22597" y="6201"/>
                </a:cubicBezTo>
                <a:cubicBezTo>
                  <a:pt x="22580" y="6201"/>
                  <a:pt x="22564" y="6201"/>
                  <a:pt x="22547" y="6201"/>
                </a:cubicBezTo>
              </a:path>
              <a:path w="3275" h="4093">
                <a:moveTo>
                  <a:pt x="21183" y="6871"/>
                </a:moveTo>
                <a:cubicBezTo>
                  <a:pt x="21209" y="7031"/>
                  <a:pt x="21214" y="7536"/>
                  <a:pt x="21307" y="7441"/>
                </a:cubicBezTo>
              </a:path>
              <a:path w="3275" h="4093">
                <a:moveTo>
                  <a:pt x="21779" y="6697"/>
                </a:moveTo>
                <a:cubicBezTo>
                  <a:pt x="21598" y="6984"/>
                  <a:pt x="21525" y="7024"/>
                  <a:pt x="21853" y="7169"/>
                </a:cubicBezTo>
                <a:cubicBezTo>
                  <a:pt x="21992" y="7228"/>
                  <a:pt x="22050" y="7214"/>
                  <a:pt x="22027" y="7317"/>
                </a:cubicBezTo>
                <a:cubicBezTo>
                  <a:pt x="21787" y="7410"/>
                  <a:pt x="21771" y="7186"/>
                  <a:pt x="21828" y="6970"/>
                </a:cubicBezTo>
                <a:cubicBezTo>
                  <a:pt x="21838" y="6931"/>
                  <a:pt x="21892" y="6819"/>
                  <a:pt x="21927" y="6772"/>
                </a:cubicBezTo>
              </a:path>
              <a:path w="3275" h="4093">
                <a:moveTo>
                  <a:pt x="22175" y="6623"/>
                </a:moveTo>
                <a:cubicBezTo>
                  <a:pt x="22149" y="6886"/>
                  <a:pt x="22114" y="7089"/>
                  <a:pt x="22275" y="7293"/>
                </a:cubicBezTo>
                <a:cubicBezTo>
                  <a:pt x="22467" y="7153"/>
                  <a:pt x="22694" y="6929"/>
                  <a:pt x="22399" y="6722"/>
                </a:cubicBezTo>
                <a:cubicBezTo>
                  <a:pt x="22298" y="6702"/>
                  <a:pt x="22278" y="6704"/>
                  <a:pt x="22225" y="6672"/>
                </a:cubicBezTo>
              </a:path>
              <a:path w="3275" h="4093">
                <a:moveTo>
                  <a:pt x="22647" y="6449"/>
                </a:moveTo>
                <a:cubicBezTo>
                  <a:pt x="22647" y="6543"/>
                  <a:pt x="22626" y="6563"/>
                  <a:pt x="22671" y="6598"/>
                </a:cubicBezTo>
                <a:cubicBezTo>
                  <a:pt x="22798" y="6471"/>
                  <a:pt x="22858" y="6374"/>
                  <a:pt x="22647" y="6375"/>
                </a:cubicBezTo>
              </a:path>
              <a:path w="3275" h="4093">
                <a:moveTo>
                  <a:pt x="23639" y="6995"/>
                </a:moveTo>
                <a:cubicBezTo>
                  <a:pt x="23465" y="7058"/>
                  <a:pt x="23406" y="7181"/>
                  <a:pt x="23316" y="7342"/>
                </a:cubicBezTo>
                <a:cubicBezTo>
                  <a:pt x="23489" y="7437"/>
                  <a:pt x="23674" y="7308"/>
                  <a:pt x="23862" y="7392"/>
                </a:cubicBezTo>
                <a:cubicBezTo>
                  <a:pt x="24118" y="7507"/>
                  <a:pt x="23862" y="7794"/>
                  <a:pt x="23688" y="7813"/>
                </a:cubicBezTo>
                <a:cubicBezTo>
                  <a:pt x="23547" y="7793"/>
                  <a:pt x="23519" y="7795"/>
                  <a:pt x="23440" y="77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84840" y="3197160"/>
            <a:ext cx="2732040" cy="857160"/>
          </a:xfrm>
          <a:custGeom>
            <a:avLst/>
            <a:gdLst/>
            <a:ahLst/>
            <a:rect l="l" t="t" r="r" b="b"/>
            <a:pathLst>
              <a:path w="7591" h="2382">
                <a:moveTo>
                  <a:pt x="14784" y="9599"/>
                </a:moveTo>
                <a:cubicBezTo>
                  <a:pt x="14947" y="9818"/>
                  <a:pt x="15113" y="10024"/>
                  <a:pt x="15304" y="10220"/>
                </a:cubicBezTo>
                <a:cubicBezTo>
                  <a:pt x="15377" y="10295"/>
                  <a:pt x="15367" y="10295"/>
                  <a:pt x="15404" y="10368"/>
                </a:cubicBezTo>
                <a:cubicBezTo>
                  <a:pt x="15204" y="10398"/>
                  <a:pt x="14987" y="10425"/>
                  <a:pt x="14784" y="10443"/>
                </a:cubicBezTo>
                <a:cubicBezTo>
                  <a:pt x="14379" y="10478"/>
                  <a:pt x="13974" y="10492"/>
                  <a:pt x="13568" y="10492"/>
                </a:cubicBezTo>
                <a:cubicBezTo>
                  <a:pt x="13593" y="10492"/>
                  <a:pt x="13601" y="10492"/>
                  <a:pt x="13618" y="10492"/>
                </a:cubicBezTo>
              </a:path>
              <a:path w="7591" h="2382">
                <a:moveTo>
                  <a:pt x="13990" y="9947"/>
                </a:moveTo>
                <a:cubicBezTo>
                  <a:pt x="14007" y="9918"/>
                  <a:pt x="14175" y="9769"/>
                  <a:pt x="14213" y="9872"/>
                </a:cubicBezTo>
                <a:cubicBezTo>
                  <a:pt x="14213" y="9992"/>
                  <a:pt x="14215" y="10030"/>
                  <a:pt x="14163" y="10096"/>
                </a:cubicBezTo>
                <a:cubicBezTo>
                  <a:pt x="14147" y="10104"/>
                  <a:pt x="14130" y="10112"/>
                  <a:pt x="14114" y="10120"/>
                </a:cubicBezTo>
                <a:cubicBezTo>
                  <a:pt x="14215" y="10087"/>
                  <a:pt x="14453" y="10088"/>
                  <a:pt x="14312" y="10294"/>
                </a:cubicBezTo>
                <a:cubicBezTo>
                  <a:pt x="14158" y="10518"/>
                  <a:pt x="13972" y="10461"/>
                  <a:pt x="13915" y="10269"/>
                </a:cubicBezTo>
              </a:path>
              <a:path w="7591" h="2382">
                <a:moveTo>
                  <a:pt x="14585" y="9823"/>
                </a:moveTo>
                <a:cubicBezTo>
                  <a:pt x="14507" y="9833"/>
                  <a:pt x="14458" y="9855"/>
                  <a:pt x="14436" y="9947"/>
                </a:cubicBezTo>
                <a:cubicBezTo>
                  <a:pt x="14436" y="9972"/>
                  <a:pt x="14436" y="9996"/>
                  <a:pt x="14436" y="10021"/>
                </a:cubicBezTo>
                <a:cubicBezTo>
                  <a:pt x="14489" y="10100"/>
                  <a:pt x="14582" y="9975"/>
                  <a:pt x="14660" y="9971"/>
                </a:cubicBezTo>
                <a:cubicBezTo>
                  <a:pt x="14852" y="9960"/>
                  <a:pt x="14795" y="10179"/>
                  <a:pt x="14660" y="10220"/>
                </a:cubicBezTo>
                <a:cubicBezTo>
                  <a:pt x="14567" y="10220"/>
                  <a:pt x="14541" y="10222"/>
                  <a:pt x="14486" y="10195"/>
                </a:cubicBezTo>
              </a:path>
              <a:path w="7591" h="2382">
                <a:moveTo>
                  <a:pt x="17140" y="10393"/>
                </a:moveTo>
                <a:cubicBezTo>
                  <a:pt x="17283" y="10575"/>
                  <a:pt x="17426" y="10753"/>
                  <a:pt x="17562" y="10939"/>
                </a:cubicBezTo>
                <a:cubicBezTo>
                  <a:pt x="17570" y="10947"/>
                  <a:pt x="17579" y="10956"/>
                  <a:pt x="17587" y="10964"/>
                </a:cubicBezTo>
                <a:cubicBezTo>
                  <a:pt x="17356" y="11001"/>
                  <a:pt x="17084" y="11071"/>
                  <a:pt x="16842" y="11112"/>
                </a:cubicBezTo>
                <a:cubicBezTo>
                  <a:pt x="16528" y="11165"/>
                  <a:pt x="15823" y="11570"/>
                  <a:pt x="15900" y="11261"/>
                </a:cubicBezTo>
                <a:cubicBezTo>
                  <a:pt x="15925" y="11253"/>
                  <a:pt x="15949" y="11245"/>
                  <a:pt x="15974" y="11237"/>
                </a:cubicBezTo>
              </a:path>
              <a:path w="7591" h="2382">
                <a:moveTo>
                  <a:pt x="16197" y="10691"/>
                </a:moveTo>
                <a:cubicBezTo>
                  <a:pt x="16345" y="10585"/>
                  <a:pt x="16377" y="10626"/>
                  <a:pt x="16520" y="10716"/>
                </a:cubicBezTo>
                <a:cubicBezTo>
                  <a:pt x="16483" y="10884"/>
                  <a:pt x="16342" y="11195"/>
                  <a:pt x="16098" y="11137"/>
                </a:cubicBezTo>
                <a:cubicBezTo>
                  <a:pt x="16098" y="11112"/>
                  <a:pt x="16098" y="11088"/>
                  <a:pt x="16098" y="11063"/>
                </a:cubicBezTo>
                <a:cubicBezTo>
                  <a:pt x="16261" y="10977"/>
                  <a:pt x="16340" y="10979"/>
                  <a:pt x="16520" y="10988"/>
                </a:cubicBezTo>
                <a:cubicBezTo>
                  <a:pt x="16537" y="10988"/>
                  <a:pt x="16553" y="10988"/>
                  <a:pt x="16570" y="10988"/>
                </a:cubicBezTo>
              </a:path>
              <a:path w="7591" h="2382">
                <a:moveTo>
                  <a:pt x="16644" y="10542"/>
                </a:moveTo>
                <a:cubicBezTo>
                  <a:pt x="16574" y="10715"/>
                  <a:pt x="16771" y="10650"/>
                  <a:pt x="16917" y="10740"/>
                </a:cubicBezTo>
                <a:cubicBezTo>
                  <a:pt x="16917" y="10748"/>
                  <a:pt x="16917" y="10757"/>
                  <a:pt x="16917" y="10765"/>
                </a:cubicBezTo>
                <a:cubicBezTo>
                  <a:pt x="16797" y="10874"/>
                  <a:pt x="16649" y="10869"/>
                  <a:pt x="16718" y="10641"/>
                </a:cubicBezTo>
                <a:cubicBezTo>
                  <a:pt x="16763" y="10491"/>
                  <a:pt x="16868" y="10443"/>
                  <a:pt x="16694" y="10443"/>
                </a:cubicBezTo>
              </a:path>
              <a:path w="7591" h="2382">
                <a:moveTo>
                  <a:pt x="18380" y="9351"/>
                </a:moveTo>
                <a:cubicBezTo>
                  <a:pt x="18483" y="9351"/>
                  <a:pt x="18546" y="9286"/>
                  <a:pt x="18653" y="9302"/>
                </a:cubicBezTo>
                <a:cubicBezTo>
                  <a:pt x="18763" y="9318"/>
                  <a:pt x="18623" y="9494"/>
                  <a:pt x="18604" y="9525"/>
                </a:cubicBezTo>
                <a:cubicBezTo>
                  <a:pt x="18689" y="9500"/>
                  <a:pt x="18881" y="9554"/>
                  <a:pt x="18777" y="9699"/>
                </a:cubicBezTo>
                <a:cubicBezTo>
                  <a:pt x="18647" y="9880"/>
                  <a:pt x="18585" y="9796"/>
                  <a:pt x="18479" y="9699"/>
                </a:cubicBezTo>
              </a:path>
              <a:path w="7591" h="2382">
                <a:moveTo>
                  <a:pt x="19025" y="9277"/>
                </a:moveTo>
                <a:cubicBezTo>
                  <a:pt x="18988" y="9333"/>
                  <a:pt x="18971" y="9337"/>
                  <a:pt x="18976" y="9376"/>
                </a:cubicBezTo>
                <a:cubicBezTo>
                  <a:pt x="19067" y="9416"/>
                  <a:pt x="19265" y="9360"/>
                  <a:pt x="19298" y="9500"/>
                </a:cubicBezTo>
                <a:cubicBezTo>
                  <a:pt x="19343" y="9694"/>
                  <a:pt x="19142" y="9614"/>
                  <a:pt x="19075" y="9599"/>
                </a:cubicBezTo>
              </a:path>
              <a:path w="7591" h="2382">
                <a:moveTo>
                  <a:pt x="19000" y="9227"/>
                </a:moveTo>
                <a:cubicBezTo>
                  <a:pt x="19099" y="9178"/>
                  <a:pt x="19265" y="9039"/>
                  <a:pt x="19372" y="9029"/>
                </a:cubicBezTo>
                <a:cubicBezTo>
                  <a:pt x="19372" y="9037"/>
                  <a:pt x="19372" y="9046"/>
                  <a:pt x="19372" y="9054"/>
                </a:cubicBezTo>
              </a:path>
              <a:path w="7591" h="2382">
                <a:moveTo>
                  <a:pt x="18604" y="9996"/>
                </a:moveTo>
                <a:cubicBezTo>
                  <a:pt x="18726" y="10014"/>
                  <a:pt x="19047" y="10090"/>
                  <a:pt x="18827" y="10269"/>
                </a:cubicBezTo>
                <a:cubicBezTo>
                  <a:pt x="18786" y="10286"/>
                  <a:pt x="18744" y="10302"/>
                  <a:pt x="18703" y="10319"/>
                </a:cubicBezTo>
                <a:cubicBezTo>
                  <a:pt x="18678" y="10311"/>
                  <a:pt x="18653" y="10302"/>
                  <a:pt x="18628" y="10294"/>
                </a:cubicBezTo>
                <a:cubicBezTo>
                  <a:pt x="18679" y="10168"/>
                  <a:pt x="18832" y="10220"/>
                  <a:pt x="18951" y="10220"/>
                </a:cubicBezTo>
                <a:cubicBezTo>
                  <a:pt x="18976" y="10220"/>
                  <a:pt x="19000" y="10220"/>
                  <a:pt x="19025" y="10220"/>
                </a:cubicBezTo>
              </a:path>
              <a:path w="7591" h="2382">
                <a:moveTo>
                  <a:pt x="19174" y="9798"/>
                </a:moveTo>
                <a:cubicBezTo>
                  <a:pt x="19074" y="9898"/>
                  <a:pt x="19033" y="9906"/>
                  <a:pt x="19050" y="9996"/>
                </a:cubicBezTo>
                <a:cubicBezTo>
                  <a:pt x="19164" y="10066"/>
                  <a:pt x="19267" y="10117"/>
                  <a:pt x="19372" y="10195"/>
                </a:cubicBezTo>
                <a:cubicBezTo>
                  <a:pt x="19283" y="10240"/>
                  <a:pt x="19041" y="10321"/>
                  <a:pt x="19174" y="10096"/>
                </a:cubicBezTo>
                <a:cubicBezTo>
                  <a:pt x="19239" y="9986"/>
                  <a:pt x="19311" y="9983"/>
                  <a:pt x="19348" y="9872"/>
                </a:cubicBezTo>
              </a:path>
              <a:path w="7591" h="2382">
                <a:moveTo>
                  <a:pt x="18331" y="10492"/>
                </a:moveTo>
                <a:cubicBezTo>
                  <a:pt x="18676" y="10400"/>
                  <a:pt x="19016" y="10302"/>
                  <a:pt x="19372" y="10269"/>
                </a:cubicBezTo>
              </a:path>
              <a:path w="7591" h="2382">
                <a:moveTo>
                  <a:pt x="19348" y="10592"/>
                </a:moveTo>
                <a:cubicBezTo>
                  <a:pt x="19393" y="10580"/>
                  <a:pt x="19692" y="10467"/>
                  <a:pt x="19720" y="10567"/>
                </a:cubicBezTo>
                <a:cubicBezTo>
                  <a:pt x="19736" y="10623"/>
                  <a:pt x="19577" y="10714"/>
                  <a:pt x="19546" y="10740"/>
                </a:cubicBezTo>
                <a:cubicBezTo>
                  <a:pt x="19641" y="10747"/>
                  <a:pt x="20032" y="10792"/>
                  <a:pt x="19819" y="10988"/>
                </a:cubicBezTo>
                <a:cubicBezTo>
                  <a:pt x="19653" y="11140"/>
                  <a:pt x="19484" y="11052"/>
                  <a:pt x="19323" y="10988"/>
                </a:cubicBezTo>
              </a:path>
              <a:path w="7591" h="2382">
                <a:moveTo>
                  <a:pt x="18430" y="8880"/>
                </a:moveTo>
                <a:cubicBezTo>
                  <a:pt x="18468" y="8918"/>
                  <a:pt x="18531" y="9034"/>
                  <a:pt x="18554" y="9103"/>
                </a:cubicBezTo>
              </a:path>
              <a:path w="7591" h="2382">
                <a:moveTo>
                  <a:pt x="18752" y="10641"/>
                </a:moveTo>
                <a:cubicBezTo>
                  <a:pt x="18776" y="10545"/>
                  <a:pt x="18832" y="10718"/>
                  <a:pt x="18852" y="10815"/>
                </a:cubicBezTo>
                <a:cubicBezTo>
                  <a:pt x="18889" y="10997"/>
                  <a:pt x="18873" y="11022"/>
                  <a:pt x="19000" y="11137"/>
                </a:cubicBezTo>
                <a:cubicBezTo>
                  <a:pt x="19145" y="11025"/>
                  <a:pt x="19167" y="11018"/>
                  <a:pt x="19199" y="10840"/>
                </a:cubicBezTo>
                <a:cubicBezTo>
                  <a:pt x="19162" y="10840"/>
                  <a:pt x="18911" y="11023"/>
                  <a:pt x="19050" y="11063"/>
                </a:cubicBezTo>
                <a:cubicBezTo>
                  <a:pt x="19083" y="11055"/>
                  <a:pt x="19116" y="11046"/>
                  <a:pt x="19149" y="11038"/>
                </a:cubicBezTo>
              </a:path>
              <a:path w="7591" h="2382">
                <a:moveTo>
                  <a:pt x="19819" y="10244"/>
                </a:moveTo>
                <a:cubicBezTo>
                  <a:pt x="19767" y="10317"/>
                  <a:pt x="19758" y="10359"/>
                  <a:pt x="19745" y="10443"/>
                </a:cubicBezTo>
                <a:cubicBezTo>
                  <a:pt x="19814" y="10473"/>
                  <a:pt x="20049" y="10401"/>
                  <a:pt x="19918" y="10269"/>
                </a:cubicBezTo>
                <a:cubicBezTo>
                  <a:pt x="19850" y="10269"/>
                  <a:pt x="19823" y="10264"/>
                  <a:pt x="19869" y="10319"/>
                </a:cubicBezTo>
              </a:path>
              <a:path w="7591" h="2382">
                <a:moveTo>
                  <a:pt x="20662" y="10244"/>
                </a:moveTo>
                <a:cubicBezTo>
                  <a:pt x="20635" y="10487"/>
                  <a:pt x="20646" y="10755"/>
                  <a:pt x="20588" y="10988"/>
                </a:cubicBezTo>
                <a:cubicBezTo>
                  <a:pt x="20588" y="10980"/>
                  <a:pt x="20588" y="10972"/>
                  <a:pt x="20588" y="10964"/>
                </a:cubicBezTo>
              </a:path>
              <a:path w="7591" h="2382">
                <a:moveTo>
                  <a:pt x="20538" y="10294"/>
                </a:moveTo>
                <a:cubicBezTo>
                  <a:pt x="20734" y="10489"/>
                  <a:pt x="20930" y="10679"/>
                  <a:pt x="21134" y="10864"/>
                </a:cubicBezTo>
                <a:cubicBezTo>
                  <a:pt x="21142" y="10872"/>
                  <a:pt x="21150" y="10881"/>
                  <a:pt x="21158" y="10889"/>
                </a:cubicBezTo>
                <a:cubicBezTo>
                  <a:pt x="21138" y="10679"/>
                  <a:pt x="21096" y="10479"/>
                  <a:pt x="21084" y="10269"/>
                </a:cubicBezTo>
                <a:cubicBezTo>
                  <a:pt x="21084" y="10244"/>
                  <a:pt x="21084" y="10236"/>
                  <a:pt x="21109" y="102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les that are opposite each other.  Vertical angles are eq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515280" y="3503520"/>
          <a:ext cx="1869840" cy="4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5280" y="3503520"/>
                    <a:ext cx="186984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971800" y="2971800"/>
            <a:ext cx="3733920" cy="243828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819520" y="2819520"/>
            <a:ext cx="3581280" cy="2590560"/>
            <a:chOff x="2819520" y="2819520"/>
            <a:chExt cx="3581280" cy="2590560"/>
          </a:xfrm>
        </p:grpSpPr>
        <p:sp>
          <p:nvSpPr>
            <p:cNvPr id="146" name=""/>
            <p:cNvSpPr/>
            <p:nvPr/>
          </p:nvSpPr>
          <p:spPr>
            <a:xfrm flipV="1">
              <a:off x="2819520" y="2819520"/>
              <a:ext cx="3581280" cy="25905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95680" y="34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81480" y="38098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95680" y="42670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62520" y="38098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1" name=""/>
          <p:cNvGraphicFramePr/>
          <p:nvPr/>
        </p:nvGraphicFramePr>
        <p:xfrm>
          <a:off x="6586560" y="4352760"/>
          <a:ext cx="1793880" cy="42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6560" y="4352760"/>
                    <a:ext cx="179388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1219320" y="380880"/>
            <a:ext cx="6858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tudents will identify Complimentary, Supplementary, Vertical, Adjacent and Corresponding A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Vertical 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7240" y="938160"/>
            <a:ext cx="1027440" cy="1749600"/>
          </a:xfrm>
          <a:custGeom>
            <a:avLst/>
            <a:gdLst/>
            <a:ahLst/>
            <a:rect l="l" t="t" r="r" b="b"/>
            <a:pathLst>
              <a:path w="2853" h="4863">
                <a:moveTo>
                  <a:pt x="3026" y="3497"/>
                </a:moveTo>
                <a:cubicBezTo>
                  <a:pt x="3026" y="3797"/>
                  <a:pt x="3030" y="4091"/>
                  <a:pt x="3051" y="4390"/>
                </a:cubicBezTo>
                <a:cubicBezTo>
                  <a:pt x="3066" y="4597"/>
                  <a:pt x="3300" y="5071"/>
                  <a:pt x="3101" y="5011"/>
                </a:cubicBezTo>
                <a:cubicBezTo>
                  <a:pt x="3084" y="4994"/>
                  <a:pt x="3068" y="4978"/>
                  <a:pt x="3051" y="4961"/>
                </a:cubicBezTo>
              </a:path>
              <a:path w="2853" h="4863">
                <a:moveTo>
                  <a:pt x="3051" y="3547"/>
                </a:moveTo>
                <a:cubicBezTo>
                  <a:pt x="3051" y="3461"/>
                  <a:pt x="3040" y="3513"/>
                  <a:pt x="3001" y="3547"/>
                </a:cubicBezTo>
                <a:cubicBezTo>
                  <a:pt x="2888" y="3646"/>
                  <a:pt x="2825" y="3690"/>
                  <a:pt x="2803" y="3845"/>
                </a:cubicBezTo>
                <a:cubicBezTo>
                  <a:pt x="2846" y="3716"/>
                  <a:pt x="2953" y="3613"/>
                  <a:pt x="3026" y="3497"/>
                </a:cubicBezTo>
                <a:cubicBezTo>
                  <a:pt x="3043" y="3464"/>
                  <a:pt x="3059" y="3431"/>
                  <a:pt x="3076" y="3398"/>
                </a:cubicBezTo>
                <a:cubicBezTo>
                  <a:pt x="3136" y="3418"/>
                  <a:pt x="3143" y="3534"/>
                  <a:pt x="3175" y="3597"/>
                </a:cubicBezTo>
                <a:cubicBezTo>
                  <a:pt x="3221" y="3690"/>
                  <a:pt x="3282" y="3767"/>
                  <a:pt x="3349" y="3845"/>
                </a:cubicBezTo>
              </a:path>
              <a:path w="2853" h="4863">
                <a:moveTo>
                  <a:pt x="2803" y="4812"/>
                </a:moveTo>
                <a:cubicBezTo>
                  <a:pt x="2928" y="4899"/>
                  <a:pt x="3048" y="4998"/>
                  <a:pt x="3175" y="5085"/>
                </a:cubicBezTo>
                <a:cubicBezTo>
                  <a:pt x="3278" y="5156"/>
                  <a:pt x="3379" y="4919"/>
                  <a:pt x="3423" y="4862"/>
                </a:cubicBezTo>
                <a:cubicBezTo>
                  <a:pt x="3496" y="4770"/>
                  <a:pt x="3500" y="4758"/>
                  <a:pt x="3547" y="4713"/>
                </a:cubicBezTo>
              </a:path>
              <a:path w="2853" h="4863">
                <a:moveTo>
                  <a:pt x="3175" y="2604"/>
                </a:moveTo>
                <a:cubicBezTo>
                  <a:pt x="2886" y="2639"/>
                  <a:pt x="2621" y="2789"/>
                  <a:pt x="2406" y="3001"/>
                </a:cubicBezTo>
                <a:cubicBezTo>
                  <a:pt x="1984" y="3418"/>
                  <a:pt x="1827" y="4056"/>
                  <a:pt x="1910" y="4638"/>
                </a:cubicBezTo>
                <a:cubicBezTo>
                  <a:pt x="2001" y="5277"/>
                  <a:pt x="2556" y="5634"/>
                  <a:pt x="3175" y="5556"/>
                </a:cubicBezTo>
                <a:cubicBezTo>
                  <a:pt x="3730" y="5486"/>
                  <a:pt x="4245" y="5122"/>
                  <a:pt x="4440" y="4589"/>
                </a:cubicBezTo>
                <a:cubicBezTo>
                  <a:pt x="4622" y="4092"/>
                  <a:pt x="4435" y="3411"/>
                  <a:pt x="3994" y="3101"/>
                </a:cubicBezTo>
                <a:cubicBezTo>
                  <a:pt x="3932" y="3057"/>
                  <a:pt x="3394" y="2759"/>
                  <a:pt x="3299" y="2778"/>
                </a:cubicBezTo>
                <a:cubicBezTo>
                  <a:pt x="3299" y="2836"/>
                  <a:pt x="3299" y="2844"/>
                  <a:pt x="3299" y="2877"/>
                </a:cubicBezTo>
              </a:path>
              <a:path w="2853" h="4863">
                <a:moveTo>
                  <a:pt x="3795" y="2803"/>
                </a:moveTo>
                <a:cubicBezTo>
                  <a:pt x="3674" y="3040"/>
                  <a:pt x="3531" y="3328"/>
                  <a:pt x="3423" y="3572"/>
                </a:cubicBezTo>
                <a:cubicBezTo>
                  <a:pt x="3118" y="4260"/>
                  <a:pt x="2752" y="4904"/>
                  <a:pt x="2431" y="5581"/>
                </a:cubicBezTo>
                <a:cubicBezTo>
                  <a:pt x="2381" y="5687"/>
                  <a:pt x="2365" y="5767"/>
                  <a:pt x="2332" y="5879"/>
                </a:cubicBezTo>
              </a:path>
              <a:path w="2853" h="4863">
                <a:moveTo>
                  <a:pt x="3076" y="7441"/>
                </a:moveTo>
                <a:cubicBezTo>
                  <a:pt x="3265" y="7470"/>
                  <a:pt x="3451" y="7466"/>
                  <a:pt x="3646" y="7466"/>
                </a:cubicBezTo>
                <a:cubicBezTo>
                  <a:pt x="4018" y="7466"/>
                  <a:pt x="4390" y="7466"/>
                  <a:pt x="4762" y="74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33800" y="2367000"/>
            <a:ext cx="804960" cy="98280"/>
          </a:xfrm>
          <a:custGeom>
            <a:avLst/>
            <a:gdLst/>
            <a:ahLst/>
            <a:rect l="l" t="t" r="r" b="b"/>
            <a:pathLst>
              <a:path w="2234" h="274">
                <a:moveTo>
                  <a:pt x="8706" y="6573"/>
                </a:moveTo>
                <a:cubicBezTo>
                  <a:pt x="8820" y="6573"/>
                  <a:pt x="8920" y="6574"/>
                  <a:pt x="9029" y="6598"/>
                </a:cubicBezTo>
                <a:cubicBezTo>
                  <a:pt x="9222" y="6640"/>
                  <a:pt x="9454" y="6677"/>
                  <a:pt x="9649" y="6697"/>
                </a:cubicBezTo>
                <a:cubicBezTo>
                  <a:pt x="9849" y="6717"/>
                  <a:pt x="10045" y="6748"/>
                  <a:pt x="10244" y="6772"/>
                </a:cubicBezTo>
                <a:cubicBezTo>
                  <a:pt x="10378" y="6788"/>
                  <a:pt x="10505" y="6817"/>
                  <a:pt x="10641" y="6821"/>
                </a:cubicBezTo>
                <a:cubicBezTo>
                  <a:pt x="10727" y="6823"/>
                  <a:pt x="10804" y="6842"/>
                  <a:pt x="10889" y="6846"/>
                </a:cubicBezTo>
                <a:cubicBezTo>
                  <a:pt x="10914" y="6846"/>
                  <a:pt x="10922" y="6846"/>
                  <a:pt x="10939" y="68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59160" y="2589120"/>
            <a:ext cx="777960" cy="1716120"/>
          </a:xfrm>
          <a:custGeom>
            <a:avLst/>
            <a:gdLst/>
            <a:ahLst/>
            <a:rect l="l" t="t" r="r" b="b"/>
            <a:pathLst>
              <a:path w="2159" h="4764">
                <a:moveTo>
                  <a:pt x="12551" y="10964"/>
                </a:moveTo>
                <a:cubicBezTo>
                  <a:pt x="12559" y="10964"/>
                  <a:pt x="12568" y="10964"/>
                  <a:pt x="12576" y="10964"/>
                </a:cubicBezTo>
                <a:cubicBezTo>
                  <a:pt x="12595" y="10926"/>
                  <a:pt x="12635" y="10912"/>
                  <a:pt x="12675" y="10889"/>
                </a:cubicBezTo>
                <a:cubicBezTo>
                  <a:pt x="12712" y="10868"/>
                  <a:pt x="12787" y="10848"/>
                  <a:pt x="12824" y="10840"/>
                </a:cubicBezTo>
                <a:cubicBezTo>
                  <a:pt x="12876" y="10829"/>
                  <a:pt x="12923" y="10818"/>
                  <a:pt x="12973" y="10815"/>
                </a:cubicBezTo>
                <a:cubicBezTo>
                  <a:pt x="13045" y="10811"/>
                  <a:pt x="13088" y="10820"/>
                  <a:pt x="13146" y="10840"/>
                </a:cubicBezTo>
                <a:cubicBezTo>
                  <a:pt x="13179" y="10851"/>
                  <a:pt x="13214" y="10856"/>
                  <a:pt x="13246" y="10864"/>
                </a:cubicBezTo>
                <a:cubicBezTo>
                  <a:pt x="13258" y="10899"/>
                  <a:pt x="13300" y="10894"/>
                  <a:pt x="13320" y="10939"/>
                </a:cubicBezTo>
                <a:cubicBezTo>
                  <a:pt x="13320" y="10967"/>
                  <a:pt x="13322" y="10978"/>
                  <a:pt x="13345" y="10988"/>
                </a:cubicBezTo>
              </a:path>
              <a:path w="2159" h="4764">
                <a:moveTo>
                  <a:pt x="12626" y="11733"/>
                </a:moveTo>
                <a:cubicBezTo>
                  <a:pt x="12626" y="11690"/>
                  <a:pt x="12633" y="11744"/>
                  <a:pt x="12675" y="11757"/>
                </a:cubicBezTo>
                <a:cubicBezTo>
                  <a:pt x="12711" y="11769"/>
                  <a:pt x="12740" y="11795"/>
                  <a:pt x="12774" y="11807"/>
                </a:cubicBezTo>
                <a:cubicBezTo>
                  <a:pt x="12815" y="11821"/>
                  <a:pt x="12880" y="11824"/>
                  <a:pt x="12898" y="11832"/>
                </a:cubicBezTo>
                <a:cubicBezTo>
                  <a:pt x="12929" y="11845"/>
                  <a:pt x="13001" y="11820"/>
                  <a:pt x="13022" y="11807"/>
                </a:cubicBezTo>
                <a:cubicBezTo>
                  <a:pt x="13058" y="11785"/>
                  <a:pt x="13100" y="11768"/>
                  <a:pt x="13146" y="11757"/>
                </a:cubicBezTo>
                <a:cubicBezTo>
                  <a:pt x="13186" y="11747"/>
                  <a:pt x="13210" y="11720"/>
                  <a:pt x="13246" y="11708"/>
                </a:cubicBezTo>
                <a:cubicBezTo>
                  <a:pt x="13280" y="11697"/>
                  <a:pt x="13274" y="11668"/>
                  <a:pt x="13295" y="11658"/>
                </a:cubicBezTo>
                <a:cubicBezTo>
                  <a:pt x="13320" y="11658"/>
                  <a:pt x="13328" y="11658"/>
                  <a:pt x="13320" y="11633"/>
                </a:cubicBezTo>
                <a:cubicBezTo>
                  <a:pt x="13308" y="11682"/>
                  <a:pt x="13288" y="11690"/>
                  <a:pt x="13246" y="11708"/>
                </a:cubicBezTo>
                <a:cubicBezTo>
                  <a:pt x="13204" y="11726"/>
                  <a:pt x="13133" y="11736"/>
                  <a:pt x="13097" y="11757"/>
                </a:cubicBezTo>
                <a:cubicBezTo>
                  <a:pt x="13053" y="11784"/>
                  <a:pt x="12956" y="11819"/>
                  <a:pt x="12898" y="11807"/>
                </a:cubicBezTo>
                <a:cubicBezTo>
                  <a:pt x="12862" y="11800"/>
                  <a:pt x="12784" y="11793"/>
                  <a:pt x="12750" y="11782"/>
                </a:cubicBezTo>
                <a:cubicBezTo>
                  <a:pt x="12705" y="11767"/>
                  <a:pt x="12644" y="11717"/>
                  <a:pt x="12626" y="11708"/>
                </a:cubicBezTo>
                <a:cubicBezTo>
                  <a:pt x="12592" y="11691"/>
                  <a:pt x="12566" y="11676"/>
                  <a:pt x="12551" y="11633"/>
                </a:cubicBezTo>
                <a:cubicBezTo>
                  <a:pt x="12542" y="11607"/>
                  <a:pt x="12551" y="11625"/>
                  <a:pt x="12601" y="11633"/>
                </a:cubicBezTo>
              </a:path>
              <a:path w="2159" h="4764">
                <a:moveTo>
                  <a:pt x="13767" y="10740"/>
                </a:moveTo>
                <a:cubicBezTo>
                  <a:pt x="13767" y="10732"/>
                  <a:pt x="13767" y="10724"/>
                  <a:pt x="13767" y="10716"/>
                </a:cubicBezTo>
                <a:cubicBezTo>
                  <a:pt x="13798" y="10726"/>
                  <a:pt x="13824" y="10742"/>
                  <a:pt x="13841" y="10790"/>
                </a:cubicBezTo>
                <a:cubicBezTo>
                  <a:pt x="13859" y="10840"/>
                  <a:pt x="13924" y="10868"/>
                  <a:pt x="13940" y="10939"/>
                </a:cubicBezTo>
                <a:cubicBezTo>
                  <a:pt x="13950" y="10986"/>
                  <a:pt x="13947" y="11068"/>
                  <a:pt x="13965" y="11112"/>
                </a:cubicBezTo>
                <a:cubicBezTo>
                  <a:pt x="13987" y="11163"/>
                  <a:pt x="13990" y="11198"/>
                  <a:pt x="13990" y="11261"/>
                </a:cubicBezTo>
                <a:cubicBezTo>
                  <a:pt x="13990" y="11324"/>
                  <a:pt x="13965" y="11370"/>
                  <a:pt x="13965" y="11435"/>
                </a:cubicBezTo>
                <a:cubicBezTo>
                  <a:pt x="13965" y="11479"/>
                  <a:pt x="13917" y="11550"/>
                  <a:pt x="13915" y="11559"/>
                </a:cubicBezTo>
                <a:cubicBezTo>
                  <a:pt x="13903" y="11606"/>
                  <a:pt x="13917" y="11643"/>
                  <a:pt x="13891" y="11683"/>
                </a:cubicBezTo>
                <a:cubicBezTo>
                  <a:pt x="13868" y="11718"/>
                  <a:pt x="13842" y="11753"/>
                  <a:pt x="13816" y="11782"/>
                </a:cubicBezTo>
                <a:cubicBezTo>
                  <a:pt x="13784" y="11818"/>
                  <a:pt x="13802" y="11820"/>
                  <a:pt x="13767" y="11832"/>
                </a:cubicBezTo>
              </a:path>
              <a:path w="2159" h="4764">
                <a:moveTo>
                  <a:pt x="12055" y="10815"/>
                </a:moveTo>
                <a:cubicBezTo>
                  <a:pt x="12012" y="10815"/>
                  <a:pt x="11959" y="10801"/>
                  <a:pt x="11931" y="10840"/>
                </a:cubicBezTo>
                <a:cubicBezTo>
                  <a:pt x="11878" y="10915"/>
                  <a:pt x="11880" y="10987"/>
                  <a:pt x="11857" y="11063"/>
                </a:cubicBezTo>
                <a:cubicBezTo>
                  <a:pt x="11836" y="11134"/>
                  <a:pt x="11832" y="11184"/>
                  <a:pt x="11832" y="11261"/>
                </a:cubicBezTo>
                <a:cubicBezTo>
                  <a:pt x="11832" y="11397"/>
                  <a:pt x="11825" y="11530"/>
                  <a:pt x="11857" y="11658"/>
                </a:cubicBezTo>
                <a:cubicBezTo>
                  <a:pt x="11866" y="11693"/>
                  <a:pt x="11861" y="11728"/>
                  <a:pt x="11881" y="11757"/>
                </a:cubicBezTo>
                <a:cubicBezTo>
                  <a:pt x="11910" y="11800"/>
                  <a:pt x="11918" y="11806"/>
                  <a:pt x="11956" y="11832"/>
                </a:cubicBezTo>
                <a:cubicBezTo>
                  <a:pt x="11990" y="11855"/>
                  <a:pt x="11998" y="11877"/>
                  <a:pt x="12030" y="11906"/>
                </a:cubicBezTo>
                <a:cubicBezTo>
                  <a:pt x="12053" y="11929"/>
                  <a:pt x="12061" y="11933"/>
                  <a:pt x="12055" y="11956"/>
                </a:cubicBezTo>
              </a:path>
              <a:path w="2159" h="4764">
                <a:moveTo>
                  <a:pt x="12923" y="11237"/>
                </a:moveTo>
                <a:cubicBezTo>
                  <a:pt x="12923" y="11164"/>
                  <a:pt x="12913" y="11113"/>
                  <a:pt x="12898" y="11038"/>
                </a:cubicBezTo>
                <a:cubicBezTo>
                  <a:pt x="12879" y="10939"/>
                  <a:pt x="12871" y="10923"/>
                  <a:pt x="12874" y="10864"/>
                </a:cubicBezTo>
              </a:path>
              <a:path w="2159" h="4764">
                <a:moveTo>
                  <a:pt x="12849" y="10567"/>
                </a:moveTo>
                <a:cubicBezTo>
                  <a:pt x="12844" y="10492"/>
                  <a:pt x="12836" y="10440"/>
                  <a:pt x="12824" y="10368"/>
                </a:cubicBezTo>
              </a:path>
              <a:path w="2159" h="4764">
                <a:moveTo>
                  <a:pt x="12675" y="9996"/>
                </a:moveTo>
                <a:cubicBezTo>
                  <a:pt x="12675" y="9902"/>
                  <a:pt x="12689" y="9801"/>
                  <a:pt x="12650" y="9723"/>
                </a:cubicBezTo>
              </a:path>
              <a:path w="2159" h="4764">
                <a:moveTo>
                  <a:pt x="12576" y="9426"/>
                </a:moveTo>
                <a:cubicBezTo>
                  <a:pt x="12576" y="9331"/>
                  <a:pt x="12574" y="9242"/>
                  <a:pt x="12551" y="9153"/>
                </a:cubicBezTo>
                <a:cubicBezTo>
                  <a:pt x="12543" y="9128"/>
                  <a:pt x="12534" y="9104"/>
                  <a:pt x="12526" y="9079"/>
                </a:cubicBezTo>
              </a:path>
              <a:path w="2159" h="4764">
                <a:moveTo>
                  <a:pt x="12477" y="8781"/>
                </a:moveTo>
                <a:cubicBezTo>
                  <a:pt x="12467" y="8667"/>
                  <a:pt x="12469" y="8568"/>
                  <a:pt x="12452" y="8458"/>
                </a:cubicBezTo>
              </a:path>
              <a:path w="2159" h="4764">
                <a:moveTo>
                  <a:pt x="12328" y="8111"/>
                </a:moveTo>
                <a:cubicBezTo>
                  <a:pt x="12321" y="8022"/>
                  <a:pt x="12305" y="7949"/>
                  <a:pt x="12278" y="7863"/>
                </a:cubicBezTo>
              </a:path>
              <a:path w="2159" h="4764">
                <a:moveTo>
                  <a:pt x="12204" y="7714"/>
                </a:moveTo>
                <a:cubicBezTo>
                  <a:pt x="12177" y="7607"/>
                  <a:pt x="12167" y="7566"/>
                  <a:pt x="12154" y="7491"/>
                </a:cubicBezTo>
              </a:path>
              <a:path w="2159" h="4764">
                <a:moveTo>
                  <a:pt x="12105" y="7293"/>
                </a:moveTo>
                <a:cubicBezTo>
                  <a:pt x="12113" y="7260"/>
                  <a:pt x="12121" y="7226"/>
                  <a:pt x="12129" y="7193"/>
                </a:cubicBezTo>
              </a:path>
              <a:path w="2159" h="4764">
                <a:moveTo>
                  <a:pt x="12129" y="7193"/>
                </a:moveTo>
                <a:lnTo>
                  <a:pt x="12129" y="719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38800" y="3983040"/>
            <a:ext cx="115560" cy="160200"/>
          </a:xfrm>
          <a:custGeom>
            <a:avLst/>
            <a:gdLst/>
            <a:ahLst/>
            <a:rect l="l" t="t" r="r" b="b"/>
            <a:pathLst>
              <a:path w="323" h="447">
                <a:moveTo>
                  <a:pt x="12526" y="11063"/>
                </a:moveTo>
                <a:cubicBezTo>
                  <a:pt x="12534" y="11063"/>
                  <a:pt x="12543" y="11063"/>
                  <a:pt x="12551" y="11063"/>
                </a:cubicBezTo>
              </a:path>
              <a:path w="323" h="447">
                <a:moveTo>
                  <a:pt x="12526" y="11088"/>
                </a:moveTo>
                <a:cubicBezTo>
                  <a:pt x="12479" y="11125"/>
                  <a:pt x="12426" y="11151"/>
                  <a:pt x="12378" y="11187"/>
                </a:cubicBezTo>
                <a:cubicBezTo>
                  <a:pt x="12353" y="11212"/>
                  <a:pt x="12345" y="11220"/>
                  <a:pt x="12328" y="11237"/>
                </a:cubicBezTo>
                <a:cubicBezTo>
                  <a:pt x="12344" y="11284"/>
                  <a:pt x="12456" y="11345"/>
                  <a:pt x="12502" y="11385"/>
                </a:cubicBezTo>
                <a:cubicBezTo>
                  <a:pt x="12552" y="11429"/>
                  <a:pt x="12569" y="11488"/>
                  <a:pt x="12626" y="11509"/>
                </a:cubicBezTo>
                <a:cubicBezTo>
                  <a:pt x="12634" y="11509"/>
                  <a:pt x="12642" y="11509"/>
                  <a:pt x="12650" y="115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8T02:46:49Z</dcterms:created>
  <dc:creator>Brian McGrath</dc:creator>
  <dc:description/>
  <dc:language>en-US</dc:language>
  <cp:lastModifiedBy>deanne elizabeth mcgrath</cp:lastModifiedBy>
  <dcterms:modified xsi:type="dcterms:W3CDTF">2011-06-08T17:33:15Z</dcterms:modified>
  <cp:revision>2</cp:revision>
  <dc:subject/>
  <dc:title>Warm-up:</dc:title>
</cp:coreProperties>
</file>